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93E-4950-41BD-B36C-3141D608C08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217-3CD1-4AED-8C21-2E0812072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E1E-EE60-4A86-866F-8E5FD5CE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947-EE4D-419C-9482-E8304F5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1DD-5FFF-4B93-AFCA-13DBF584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EA1-329A-41F3-A3D7-7306E3B4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9B2-0DCC-4D19-A151-BF3B5F90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9DC9-353B-4DFD-BB01-C61235E4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7C5-14FF-4236-994D-8FF731E6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8927-3238-47B4-9C89-C6B20F22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645A-832A-45A7-AD3E-D4B4E3F7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0C93-B067-4742-97B5-6F450EB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39F-1A96-4553-9CAB-CCA0544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0E7-2401-4728-9981-350D662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8BF6-1C8A-4058-A779-5CAA0C5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9373-02F5-4B71-B8C8-4AB36AE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0E37-EFE2-4A29-A202-0492706F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96B8-820C-4E66-A15A-535F831A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BDD9-0DC1-47BA-991A-FDF442AE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109-4A2F-46B0-B976-94C9400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F29-1B54-42C9-BB17-82E71A63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75B-57C0-4B5F-8B63-571F4435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C4B-F6E4-41A2-BE6E-B4ED45F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199-1094-4A88-ADB1-858C77C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9A9-84F8-440D-9B7E-70D8041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6AA-2EF3-4D74-BBD9-409E6CC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B7E-2A53-4FC0-974A-31116FC8B663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A0D-92BE-45BB-B1DC-1971394CE6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A7A-5B56-44B3-B41E-2AA37C00D031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142-A667-4974-AC6B-AD3B64E134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42920" y="765000"/>
            <a:ext cx="4249800" cy="31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ASE DISCU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50920" y="250920"/>
            <a:ext cx="4105080" cy="6300720"/>
          </a:xfrm>
          <a:prstGeom prst="rect">
            <a:avLst/>
          </a:prstGeom>
          <a:ln w="0">
            <a:noFill/>
          </a:ln>
        </p:spPr>
      </p:pic>
      <p:sp>
        <p:nvSpPr>
          <p:cNvPr id="95" name="Title 1"/>
          <p:cNvSpPr/>
          <p:nvPr/>
        </p:nvSpPr>
        <p:spPr>
          <a:xfrm>
            <a:off x="4716360" y="4292640"/>
            <a:ext cx="3959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Clinical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nagement of Cancer Pain  Developmen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28B-277F-40EE-8725-FC5B6DDCCC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En. A sekarang lebih selesa dengan ubat biji morphine SR tetapi belum keluar wad kerana menunggu ujian CT scan pada hari esok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Semasa di wad pada pukul  5 petang, beliau tiba-tiba mengadu sakit &amp; memanggil jururawat untuk memba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0CF5-FF89-4E17-B76A-7196BFE909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9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pakah tindakan perlu diambi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*Sila rujuk ke </a:t>
            </a:r>
            <a:r>
              <a:rPr b="0" i="1" lang="en-MY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 yang dilampir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10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Jikalau kesakitan En. A adalah sama seperti dahulu tetapi sekarang kurang terkawal, apakah rawatan yang sepatut diberi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os tambahan T. morphine SR 3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os tambahan T. morphine SR 2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os tambahan Aq. morphine 3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os tambahan C. tramadol 1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os tambahan T. PCM 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CEB1-B47F-4A60-B67E-D372C450FB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n. S, 57 tahun, mengidap kanser payudara yang sudah merebak ke tul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one scan menunjukkan bahawa kanser telah merebak ke tulang rusuk kiri ke 7 &amp; 8, tulang belakang T5 - L1 &amp; juga tengkor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kini mengadu sakit belak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Tahap kesakitan adalah 3/10 &amp; hanya berlaku apabila mula berdiri dari kedudukan baring atau apabila duduk terlalu l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E345-CD61-4AF8-BE3E-54C4EBA4A3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2 - Soalan/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1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pakah rawatan yang sesuai untuk kesakitan Pn.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n. S dirujuk ke pakar onkologi &amp; dirancang untuk rawatan radioterapi ke bahagian tulang belak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kemudian dimasukkan ke wad untuk memulakan rawatan berkenaan. Semasa di sana, tiba-tiba Pn. S mengadu kesakitan  yang teruk &amp; menang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2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Apakah tindakan perlu dilakuk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38F9-8F14-4C9C-81AC-9C3ED69DEA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2 - 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Kesakitan Pn. S yang teruk bukannya di belakang tetapi di sebelah kiri 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Ia lebih teruk apabila bernafas da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Tahap kesakitan adalah pada 8 - 9/10 &amp; beliau terus menangis kerana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ahagian tulang rusuk sebelah kiri sangat sakit &amp; beliau tidak membenarkan sesiapa pun menyentuh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FE2-53E8-46A7-B974-019E2372C8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2 - Soalan/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3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Apakah tindakan yang sewajarnya diambi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kini bernafas dengan perlahan disebabkan kesakitan yang lebih teruk berlaku apabila bernafas da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Q4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Adakah ubatan seperti morphine akan mengurangkan lagi kadar pernafasan &amp; menyebabkan keadaan Pn. S merosot lag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3772-EE32-4417-9E35-B8ABB3F929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n. SK adalah seorang pesakit barah mulut yang berulang selepas rawatan radioterapi &amp; kemotera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Tiada rawatan lain untuk barah tersebut dapat diberikan &amp; beliau dirujuk ke unit rawatan paliatif untuk mengawal kesakitan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pada mulanya mengambil Aq. morphine 5 mg      4 jam sekali &amp; PRN untuk tujuan terse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Tetapi kini beliau tidak boleh menelan ubat dengan baik. Beliau tidak mahu Ryle’s tube &amp; 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EE7C-188F-42C9-8968-DF639E80E0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3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1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pakah rawatan yang sesuai diguna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. morphine SR dengan menghancurkan biji terlebih dah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C morphine 4 jam sekali &amp; P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IM pethidine 8 jam sekali &amp; P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IV morphine 4 jam sekali &amp; P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ransdermal fentanyl 25 mcg/h setiap 72 j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2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Jikalau SC morphine diberi 4 jam sekali &amp; PRN, berapakah dos yang patut dimulakan? Sila kirak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428-0D06-4D30-963C-569E1754E6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3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3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SC morphine telah diberi &amp; dosnya semakin dinaikkan sehingga kesakitan dapat kawal dengan dos morphine 8 mg 4 jam sekali &amp; PRN. Jikalau transdermal fentanyl digunakan, berapakah dos yang sesuai untuknya?  Sila kirak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4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Jikalau transdermal fentanyl ditampal pada pukul 12 tgh, bilakah SC morphine patut diberhentik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ukul 12 tgh terus selepas fentanyl ditam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ukul 4 ptg selepas satu dos morphine diberikan sekali la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ntara pukul 8 mlm &amp; 12 tgh mlm untuk dos terakhir morp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B59A-C42F-4B53-A56F-1699FE5C2F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3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12536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5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Yang manakah kenyataan </a:t>
            </a:r>
            <a:r>
              <a:rPr b="1" lang="en-MY" sz="2400" spc="-1" strike="noStrike">
                <a:solidFill>
                  <a:srgbClr val="ff0000"/>
                </a:solidFill>
                <a:latin typeface="Arial"/>
              </a:rPr>
              <a:t>BENAR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mengenai </a:t>
            </a:r>
            <a:r>
              <a:rPr b="1" lang="en-MY" sz="2400" spc="-1" strike="noStrike">
                <a:solidFill>
                  <a:srgbClr val="ff0000"/>
                </a:solidFill>
                <a:latin typeface="Arial"/>
              </a:rPr>
              <a:t>transdermal fentanyl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atut ditukar setiap 48 j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Mesti ditampal di atas bahagian badan yang mengalami kesaki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dalah sesuai untuk pesakit yang tidak dapat menelan ubat morp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idak patut ditampal atas bahagian badan di mana kulit berpenyakit atau mempunyai l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Bahagian kulit di mana ia ditampal harus dibersihkan &amp; bulu roma dicukur terlebih dah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idak patut digunakan untuk pesakit di mana kesakitan mereka belum stab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pabila rawatan pesakit ditukarkan ke transdermal fentanyl, morphine mesti dihentikan terus selepas patch ditam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E59B-0155-476D-9915-5969BD1EB3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En. A, 45 tahun, menghidap barah pankreas yang tidak dapat dibedah &amp; semakin mem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mengalami kesakitan yang pedih di bahagian epigastrik yang bergerak ke bahagian belak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Kesakitan ini semakin teruk apabila beliau bersandar &amp; kurang sedikit apabila duduk ke de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emeriksaan mendapati sebuah ketumbuhan besar      di bahagian epigastrik &amp; sakit bila diteka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94B-3C6F-4715-AD32-124D50AE6A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En. MN adalah pesakit kanser paru-paru yang sudah merebak ke bahagian tulang belak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mengadu kesakitan di bahagian tulang belakang tepat di tempat di mana kanser itu mereb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Rasa kesakitan adalah pedih &amp; kadang-kadang tajam, serta makin teruk apabila beliau duduk teg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Tahap kesakitan adalah 3/10 &amp; dikawal dengan             T.diclofenac 50 mg t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Selepas beberapa minggu, kesakitan bertambah tetapi berlainan rasa iaitu seperti semut-semut berjalan di atas kaki kiri. Kadang-kadang terasa semacam renjatan eletrik mengalir dari atas kaki &amp; turun terus ke bawa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B155-1586-4BBC-B7D7-69803EA24B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4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460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1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pakah jenis kesakitan 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Kesakitan so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Kesakitan neurop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Kesakitan vis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idak t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A28-6185-474E-ACE5-3B37C491E1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4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2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ntara ubatan berikut, yang mana boleh digunakan untuk merawati kesakitan 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Morphine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odium valpro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Oxyco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Ketamine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Gabapen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mitriptyline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Carbameze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emua di 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889-94B4-4A56-A0F8-0B580C5357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En. PS, 75 tahun, adalah pengidap kanser paru-paru yang sudah merebak ke h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mengadu kesakitan di bahagian dada &amp; telah diberi Aq. morphine 5 mg P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Kesakitan terjadi berterusan dengan tahap sakit pada    6 - 7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melawat pakar kanser yang telah memberikan TD fentanyl patch 25 mcg/h &amp; menyuruh beliau gunakannya jika morphine tidak dapat mengawal kesakitan beli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06FD-B1EF-4E6B-B659-7E8B17434B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5 - Soalan/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menampal patch pada hari Selasa pagi tetapi masih mengadu sakit selepas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ada hari Rabu pagi, beliau tidak dapat dibangunkan &amp; terus dibawa ke unit kecemasan hospital terde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1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dakah ini disebabkan ubat fentanyl yang ditampal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2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Jikalau En PS menampalkan patch pada pagi Selasa, kenapa beliau tidak sedar pada hari seterusny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6B55-4229-4EBE-AB14-33F8050BD9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5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3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Jikalau keadaan beliau semasa di kecemasan adalah seperti berikut, apakah tindakan seterusnya patut diber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Kadar pernafasan 12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pO2 95% (udara bil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BP 120/7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HR 65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upils – pin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edation scor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7DC2-F3F6-4148-B45E-F2233EC5BC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5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4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Jikalau keadaan beliau semasa di kecemasan adalah seperti berikut, apakah tindakan seterusnya patut diambi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Kadar pernafasan 6 - 7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pO2 82% (udara bil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BP 80/50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HR 60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upils – pin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Sedation sco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F35-B9AC-4D9E-8DA1-18F6AEF424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5 - 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En. PS seterusnya diberi ubat naloxone di mana kadar pernafasan semakin naik &amp; tahap kesedaran pulih sedi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Walaubagaimanapun, keadaan beliau semakin merosot disebabkan jangkitan paru-paru (aspiration pneumonia) yang akhirnya mangakibatkan kematian kerana septisemia &amp; kegagalan paru-pa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3E3-A645-47D7-9256-85AB148FD3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enario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enario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 – Kesakitan adalah dalam dada di belakang 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 – Kesakitan datang tiba-tiba semasa pergi ke tandas &amp; berjal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I – Tahap kesakitan adalah 6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N – Rasa macam tekanan di atas dada &amp; disertai dengan debaran jantung &amp; berpel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Apakah pendapat &amp; tindakan yang wajar diambi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B5B7-D4E1-4F21-B565-C00987C81F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enario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enario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 – Kesakitan berada di bahagian peha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 – Kesakitan datang tiba-tiba selepas mengalihkan badan dalam katil &amp; lebih sakit apabila peha kanan digerak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I – Tahap kesakitan adalah 8/10 bila peha kanan digerakkan &amp; 3/10 bila bere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N – Kesakitan itu tepat-tepat pada tulang peha &amp; rasa semacam dipotong dengan pis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Apakah pendapat &amp; tindakan yang wajar diambi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C88-B181-4E66-8F78-FCD16C9284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1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Apakah jenis kesakitan in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2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Bagaimanakah penilaian terhadap tahap kesakitan ini dengan menggunak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Visual Analogue Scale (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Numerical Rating Scale (N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Verbal Rating Scale (V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4CB6-93BA-4992-93A6-906CFE3396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enario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enario 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 – Kesakitan adalah di bahagian epigastr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 – Kesakitan bertambah apabila baring terlalu rend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I – Tahap kesakitan adalah 6/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N- Kesakitan sama macam dahulu &amp; kurang apabila duduk        ke dep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Apakah pendapat &amp; tindakan yang wajar diambi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6CD7-25C5-4DAF-A42E-A27B5E7A54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1E9D-1B8A-4660-BF6C-16FBEDA6A0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3.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Jikalau kesakitan ini adalah pada tahap 6/10, adakah ia dianggap sedikit, sederhana atau ku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4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Untuk kesakitan pada tahap 6/10, apakah ubat yang sesuai untuk merawat simptom 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Paracetam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Ibuprof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Celeb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F1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Morp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ramad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57DE-8773-4A63-87C8-2E9C88C386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En. A diberi ubat tahan sakit di mana kesakitannya dapat dikurangkan dengan ba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2 bulan kemudian, beliau datang ke klinik &amp; mengadu kesakitan yang semakin teruk di mana ubat tidak dapat mengurangkannya yang kini pada tahap 7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dimasukkan ke wad pembedahan untuk rawatan lanjut serta ujian darah &amp; CT s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A781-C654-4A22-A228-A74B5F4EA6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Beliau diberi ubat Aq. morphine 10 mg 4 jam sekali &amp;     10 mg P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ada pukul 2 ptg, beliau diberi dos pertama Aq. morp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Kesakitan masih kuat selepas mengambil morphine tersebut &amp; beliau meminta jururawat untuk memberikan dos tambahan Aq. morp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E34-3DC3-46F6-9518-FCB909B7A8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S5.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 Bilakah jarak masa yang selamat untuk memberi dos tambahan terseb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1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1 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2 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5AF8-9DB2-478E-9AFE-82AF0B3D34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Laporan Kemaju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Aq. morphine telah ditambah sehingga kesakitan dapat dikawal dengan dos sebanyak 30 mg 4 jam sek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Seterusnya Aq. morphine ini ditukarkan ke ubat biji       T. morphine 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40C-D326-47C1-9ED9-21824418F7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s 1 - Soa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6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Berapakah dos morphine SR yang patut diberi?  Sila kira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7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Apabila ubat biji T. morphine SR diberi pada pukul   8 pagi, adakah dos Aq. morphine  30 mg patut diberi pada pukul 8 pagi juga? Sila terang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S8.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  Apabila menggunakan ubat biji morphine SR atau oxycontin, apakah nasihat yang mesti diberikan kepada pesakit serta penjaga pesak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FA29-BAAC-4EBE-8CD9-A844FC72DE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44:01Z</dcterms:created>
  <dc:creator>User</dc:creator>
  <dc:description/>
  <dc:language>en-US</dc:language>
  <cp:lastModifiedBy>Dr.Amin</cp:lastModifiedBy>
  <dcterms:modified xsi:type="dcterms:W3CDTF">2010-12-05T14:16:18Z</dcterms:modified>
  <cp:revision>150</cp:revision>
  <dc:subject/>
  <dc:title>An Evidence Based and Practical Approach to the Management of Cancer Pain in Malaysia</dc:title>
</cp:coreProperties>
</file>