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C4F1-8275-4E1E-8198-E62EFE01C848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C529-37CD-425F-B6FE-961844564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2FF2-949B-4273-B813-2E06B10CD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dominal pain, distended bladder, performance status, cognitive function, unable to swallow, route of medication, constipation, wound  (insp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B19B-5265-4B3C-9BC3-E2CDA7641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 is asked to slide the indicator along the scale to show the severity of his/her p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rse records the number on the scale (zero to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ED75-1DDB-46AB-B511-2B07C30AA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189-E61A-4315-B0EC-864A7471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C01-37B8-43BC-AF25-63B003CE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E06-CC3C-4A77-B8E0-4642A594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E52-E4E4-4B12-8A38-11EA8D35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43F5-0A04-4774-9E39-D25BD410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FAB1-900E-42B0-96AC-851C92EB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28E8-1977-445B-88E1-B348C07B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D869-4797-4438-A657-D7752AB0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BC71-7E3B-4FE7-9E9B-9A486931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C1C3-AACC-4904-ADA7-FD823D7B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2F3B-761A-4FBE-A387-66311CF8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215-9769-439B-A98F-9D783976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59DB-81DD-4613-9055-C678B2DA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D766-226E-46B3-B56C-E9E8F606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A9E7-7704-4688-9266-F2B288F6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20DB-3FCB-41B5-9BA4-AA5AECAC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BC6D-CDCB-4C54-A83C-9341CDD6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3CB-DF75-4211-B15D-2054E17F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A40-AF2B-4E3C-BC40-F73EE466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4B4-C69C-41FF-BCAB-A0528894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66C-C4BB-40A0-A120-846270B8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21C-A27A-4295-9377-E61DD9C1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BA0-0D3C-4C89-A153-147B848B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5D3-03AE-45F7-B60C-F8CA999D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74CD-3650-47C1-A8DE-15D1FB3E5434}" type="datetime">
              <a:rPr b="0" lang="en-MY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CF0B-BE39-4FDA-8BA2-1C53F21B93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6E89-5E49-4F55-A9C5-74A61C0B0B14}" type="datetime">
              <a:rPr b="0" lang="en-MY" sz="1200" spc="-1" strike="noStrike">
                <a:solidFill>
                  <a:srgbClr val="000000"/>
                </a:solidFill>
                <a:latin typeface="Garamond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A7B3-9F10-4233-9609-DA85A146619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42920" y="765000"/>
            <a:ext cx="4249800" cy="31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DIAGNOSIS &amp; ASSESSMENT 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50920" y="250920"/>
            <a:ext cx="4105080" cy="6300720"/>
          </a:xfrm>
          <a:prstGeom prst="rect">
            <a:avLst/>
          </a:prstGeom>
          <a:ln w="0">
            <a:noFill/>
          </a:ln>
        </p:spPr>
      </p:pic>
      <p:sp>
        <p:nvSpPr>
          <p:cNvPr id="95" name="Title 1"/>
          <p:cNvSpPr/>
          <p:nvPr/>
        </p:nvSpPr>
        <p:spPr>
          <a:xfrm>
            <a:off x="4716360" y="4292640"/>
            <a:ext cx="395928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Clinical Practice Guid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Management of Cancer Pain  Development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F24D-F74C-46BC-AAF7-C1624A856E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6633"/>
                </a:solidFill>
                <a:latin typeface="Garamond"/>
              </a:rPr>
              <a:t>Types of pai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4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396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pathic  Pa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is due to abnormal somato-sen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in the peripheral or central nerv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 is burning, pricking, electric-lik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oting or stab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is often associated with loss of sensation in the painful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68360" y="621828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enoy RK, Lancet Oncol,19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CF1D-C651-45D0-9C85-8FFF318B16E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nowledge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vide a useful backgr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understand cancer p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&amp; help to determine appropriate interventions.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6216480"/>
            <a:ext cx="811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aceni &amp; Portenoy, Pain,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8B3B-319A-4A31-8A48-8E73B433A0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ources of Pain</a:t>
            </a:r>
            <a:r>
              <a:rPr b="1" lang="en-US" sz="4200" spc="-1" strike="noStrike" baseline="30000">
                <a:solidFill>
                  <a:srgbClr val="006633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99840"/>
            <a:ext cx="800244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2.5% of cancer patients experienced pain due to the cancer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0.8% experienced it due to its treatment  e.g. </a:t>
            </a:r>
            <a:r>
              <a:rPr b="0" lang="en-MY" sz="2700" spc="-1" strike="noStrike">
                <a:solidFill>
                  <a:srgbClr val="000000"/>
                </a:solidFill>
                <a:latin typeface="Arial"/>
              </a:rPr>
              <a:t>chemotherapy, radiotherapy, surgery-relat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3% pain was not related to cancer or its treatment e.g. osteoarthritis, migraine, osteoporosis, chronic back pain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80880" y="6216480"/>
            <a:ext cx="811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aceni &amp; Portenoy, Pain,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63E6-1D06-46C4-9ED1-AACD8C309C9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217656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5% of patients had more than one type of pain.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380880" y="6237360"/>
            <a:ext cx="811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aceni &amp; Portenoy, Pain,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AD49-C9C3-4783-B907-8E219BF65E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nical Assess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816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 pain history is the key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te clinical assessment of p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 majority of pain diagn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be made based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al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DD96-0C57-43AF-AEEB-CABFC905E5A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oints for History Ta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1912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racteristics of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cer histo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-morbid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ycho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FF6B-2D7E-41F2-A55E-3CB21BF1CC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29600" cy="1139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mponents of a Comprehensive Pain Assessment Interview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897200"/>
            <a:ext cx="822960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long have you had the p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makes the pain bet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makes the pain wor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you experiencing any other sympto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1C19-28D1-4BF0-B02A-8ED6EE40D86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29600" cy="1139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mponents of a Comprehensive Pain Assessment Interview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3640" y="163476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ssessing pain, important ques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sk include: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having pain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your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ain always there? Does it come &amp;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9266-E890-469D-B1F7-4B302391D4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How to Assess Pain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1584000"/>
            <a:ext cx="6264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P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Place or site of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does it hurt?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 body chart might help describ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 Aggravating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makes the pain worse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: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bad is the pain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 Nature &amp; neutralising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oes it feel lik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What makes the pain better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Mcgill figure"/>
          <p:cNvPicPr/>
          <p:nvPr/>
        </p:nvPicPr>
        <p:blipFill>
          <a:blip r:embed="rId1"/>
          <a:stretch/>
        </p:blipFill>
        <p:spPr>
          <a:xfrm>
            <a:off x="6324480" y="1981080"/>
            <a:ext cx="2590920" cy="3170520"/>
          </a:xfrm>
          <a:prstGeom prst="rect">
            <a:avLst/>
          </a:prstGeom>
          <a:ln w="19080">
            <a:solidFill>
              <a:srgbClr val="99e4ff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57" name="Text Box 6"/>
          <p:cNvSpPr/>
          <p:nvPr/>
        </p:nvSpPr>
        <p:spPr>
          <a:xfrm>
            <a:off x="4114800" y="6400800"/>
            <a:ext cx="495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39C9-4917-4C60-8E5A-27207C095D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Total pain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04920" y="1523880"/>
            <a:ext cx="4038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ysica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erse side effects of treatmen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62120" y="4508640"/>
            <a:ext cx="3174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990720" y="1523880"/>
            <a:ext cx="245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952880" y="1052640"/>
            <a:ext cx="3886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sychologica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ger at  delay in diagnosi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fig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ar of death/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eling of helpless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638680" y="4724280"/>
            <a:ext cx="3160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iritual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ing? Purpose i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2895480" y="39625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H="1" flipV="1">
            <a:off x="5562360" y="403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3124080" y="2590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5651280" y="263700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15228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ors Affecting Patients’ Perception of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5"/>
          <p:cNvSpPr/>
          <p:nvPr/>
        </p:nvSpPr>
        <p:spPr>
          <a:xfrm flipV="1">
            <a:off x="3351960" y="3123720"/>
            <a:ext cx="1800" cy="180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1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ECB3-5D16-49A8-8CCB-6FE456D5C0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agnosis &amp; Assessment -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Recommendation</a:t>
            </a:r>
            <a:br>
              <a:rPr sz="3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32080"/>
            <a:ext cx="8229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&amp; comprehensive assessment should be performed prior to treatment in all patients with cancer pai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imensional pain assessment tools such as the NRS, VAS &amp; VRS should be used regularly in the day to day assessment of patients with cancer pai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Grade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social assessment should be carried out in all patients with cancer pai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Grade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’s self-report provides the most reliable assessment of pai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Grade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2A2C-0F11-4EEE-9F7B-CA42B7BCD2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hysical Exa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19120" y="1371600"/>
            <a:ext cx="82296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vides a comprehensive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atient’s condition &amp; ext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, level III; 2, level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omina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stipation/distended blad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nd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llow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80880" y="6218280"/>
            <a:ext cx="811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uera E et al., Clinical Management Cancer Pain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enoy RK, Semin Oncol Nurs,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4733-EFEB-4CE4-B8E9-53626E32DA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vestig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41264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rify the diagn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st clinical decision making e.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57168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in X-r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57168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ne sc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57168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ised tomography (CT) scans &amp; magnetic resonance imaging (MR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57168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od investigations such as liver &amp; renal function t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6CCB-E8C4-4E80-83F7-71290DBB4C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stigations should be ordered judiciously &amp; only i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results could potenti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luence clinical manag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4578-39A8-4135-B86E-CD2E9770BB1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3512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68360" y="404640"/>
            <a:ext cx="8280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isual Analogue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is asked to slide a small bead along a scale to indicate the severity of p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tal length of scale is 100 mm (10 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95076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50760" y="438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PICT0007"/>
          <p:cNvPicPr/>
          <p:nvPr/>
        </p:nvPicPr>
        <p:blipFill>
          <a:blip r:embed="rId1"/>
          <a:stretch/>
        </p:blipFill>
        <p:spPr>
          <a:xfrm>
            <a:off x="1066680" y="3533760"/>
            <a:ext cx="6291360" cy="2271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533520" y="3808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Commonly Used Unidimensional Assessment Tool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68360" y="6216480"/>
            <a:ext cx="63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raceni A, et al.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 Pain Symptom Manage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078B-1A4C-43F3-B934-ABA3E1A7F44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95280" y="692280"/>
            <a:ext cx="84978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.  Combination Rating Scale (NRS &amp; V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539640" y="4111560"/>
            <a:ext cx="8209080" cy="1617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cale of  ‘0’ – ‘I0’ (show the pain scale),                     if  ‘0’ = no pain &amp; ‘10’ = worst pain you can imagine,       what is your pain score now?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562040" y="1760400"/>
            <a:ext cx="6019920" cy="1955880"/>
          </a:xfrm>
          <a:prstGeom prst="rect">
            <a:avLst/>
          </a:prstGeom>
          <a:ln w="0">
            <a:noFill/>
          </a:ln>
        </p:spPr>
      </p:pic>
      <p:sp>
        <p:nvSpPr>
          <p:cNvPr id="19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2477-E26B-4519-B5FC-7CD9AB1631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ong-Baker FACES Pain Rating Scal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6320" y="2209680"/>
            <a:ext cx="8915400" cy="236232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F798-19D3-43DF-8EF7-117C429EF1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FLACC Score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5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y Observation), for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ediatric patient of &lt;3 yrs 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derly pati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gnitively impaired pat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behavi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score according to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the scores to get a total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83B1-48E9-4048-A61C-0D445F884D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51912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590400" y="1108080"/>
            <a:ext cx="7993080" cy="5489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7569-74B4-40EC-AF54-7939F9A6FC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24000" y="270000"/>
            <a:ext cx="83516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FLACC Score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1970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xy measures of cancer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y be useful when patients are not able to provide pain rat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y should not be used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lacements for patient rating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en patient self-report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available.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1, level II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16B6-3094-480F-B86C-DE7FC7E4375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468360" y="6237360"/>
            <a:ext cx="63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nsen MP, J Pain Palliat Care Pharmacother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sychological Assess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191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in is an important stressor in all kinds of cancers, causing disability &amp; psychological distr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ychological factors in cancer patients can compound the experience of p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eening for psychological distress should be administered using validated too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FFB8-6308-4B89-AE68-8E213507FA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earning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191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rses/paramedics will be able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 the importance of performing comprehensive pain asse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 the different types of pain so that appropriate interventions can be carried 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pain assessment tools appropriately &amp; report pain accurat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49A0-AB58-4026-80FD-C4F9285D84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sychological distress of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unrecognised, ther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ine screening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sychological distress should be part of a comprehens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 assess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F6D2-9F92-4A50-92C0-526B03E884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use of simple &amp; practical screening tools may ass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linicians in recogni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istress &amp; subsequent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necessary referrals for appropriate supp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2F7C-0C71-4564-BB31-F99217AB1B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ake Home Mess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in assessment is a vital st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cancer pain management &amp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 the responsibility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 healthcare provi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curate &amp; comprehensive assessment should be performed prior treat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order to plan for appropriate interventions &amp; to assess their effectiveness after init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78D7-D707-4D9F-A221-C29CBC619B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THANK YOU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981A-4F6A-4C4B-BB37-7936AE93305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3640" y="126828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 is a highly complex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ive phenomen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components are not only physiologic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also include behavioural, cogniti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ional, spiritual &amp; social asp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ment should be comprehen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68360" y="623736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, Control of pain in adults with cancer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Breitbart W, et al., Psycho-oncology.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E68D-44F1-414A-A01A-DD9F3EDB32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27600" y="539640"/>
            <a:ext cx="72111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IN is what the patient says “SA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9220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N1"/>
          <p:cNvPicPr/>
          <p:nvPr/>
        </p:nvPicPr>
        <p:blipFill>
          <a:blip r:embed="rId1"/>
          <a:stretch/>
        </p:blipFill>
        <p:spPr>
          <a:xfrm>
            <a:off x="2556000" y="2205000"/>
            <a:ext cx="3502080" cy="3598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35148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7620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657600" y="2590920"/>
            <a:ext cx="3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F771-3B0E-43E8-8605-34C2A1829E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ain Assessment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0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s to deter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  Nature &amp; patho-physiology of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 Severity of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. Impact of pain on functions &amp; 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Response to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48BD-60A4-493B-B401-53F034027B5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6633"/>
                </a:solidFill>
                <a:latin typeface="Garamond"/>
              </a:rPr>
              <a:t>Types of Pai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ciceptive Pa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that is due to tissue damage associated with an identifiable somatic or visceral le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Leon-Casasola OA. Cancer Pain Pharmacologic, Interventional, &amp; Palliative Approaches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C6AF-BE2B-48CC-BFEC-E7B5066606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6633"/>
                </a:solidFill>
                <a:latin typeface="Garamond"/>
              </a:rPr>
              <a:t>Types of Pai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2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atic Pa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mage of somatic tissue such as bones &amp; soft t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racter is aching, stabbing or throbbing &amp; usually well-local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68360" y="621648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Leon-Casasola OA. Cancer Pain Pharmacologic, Interventional, &amp; Palliative Approaches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3F37-3800-4E45-9F17-7716BD80D3A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6633"/>
                </a:solidFill>
                <a:latin typeface="Garamond"/>
              </a:rPr>
              <a:t>Types of pain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-3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95280"/>
            <a:ext cx="82296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ceral Pa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, level II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to viscera such as liver, intestines, bladde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 is cramping or gnawing when there is obstruction of hollow vis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ng, sharp or throbbing due to organ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diffuse &amp; difficult to local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68360" y="621648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Leon-Casasola OA. Cancer Pain Pharmacologic, Interventional, &amp; Palliative Approaches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2059-63A6-4D03-B16C-C795C4AAA61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6:44:01Z</dcterms:created>
  <dc:creator>User</dc:creator>
  <dc:description/>
  <dc:language>en-US</dc:language>
  <cp:lastModifiedBy>Dr.Amin</cp:lastModifiedBy>
  <dcterms:modified xsi:type="dcterms:W3CDTF">2011-05-04T21:58:46Z</dcterms:modified>
  <cp:revision>162</cp:revision>
  <dc:subject/>
  <dc:title>An Evidence Based and Practical Approach to the Management of Cancer Pain in Malaysia</dc:title>
</cp:coreProperties>
</file>