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50AB-281D-4C56-BBEF-ED5CD72974CC}"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in the first one that nausea and vomiting may occur in the initial part of using morphine but later will become tolerant. In the meantime we can give anti-eme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explain how the pain may disturb sleep so it is okay to be a bit drowsy also the side effect will wear off after a while. It is not danger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3</a:t>
            </a:r>
            <a:r>
              <a:rPr b="0" lang="en-US" sz="1200" spc="-1" strike="noStrike" baseline="30000">
                <a:solidFill>
                  <a:srgbClr val="000000"/>
                </a:solidFill>
                <a:latin typeface="Calibri"/>
              </a:rPr>
              <a:t>rd</a:t>
            </a:r>
            <a:r>
              <a:rPr b="0" lang="en-US" sz="1200" spc="-1" strike="noStrike">
                <a:solidFill>
                  <a:srgbClr val="000000"/>
                </a:solidFill>
                <a:latin typeface="Calibri"/>
              </a:rPr>
              <a:t> assess his bowel habits and advise about constipation, taking laxatives and what to do. </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E6FB-A6F0-4C28-8951-88CDB67E77B5}"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ssess whether pt. understands that pain is due to cancer. Advise that morphine lasts 4 hours and the pain will be persistent because the cancer is always there. Hence pain medication must be taken regularly. Also advise that he can take the morphine every hour if necessary for breakthrough pain.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D1B3-F19B-4BC7-A8A6-4B0C048601BF}"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it is not dangerous if you have pain and that controlling pain will in fact help you live better. There is no long term problems of using morphine. It will not shorten life and tolerance is not an issue. The dose of morphine can always increas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ddiction will not occur in genuine pain.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E782-46C6-47B4-BEE3-639D9B45F9F9}"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steps on how to use fentanyl as in the CPG </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8118-4A62-43A2-B3BF-BD2782700D11}"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SR morphine is a long acting tablet but exactly the same effect as aq morphine . It is for convenience so he has to take it twice a day only. Also advise not to crush chew or cut the tablet. Also explain that if there is more pain he should take the AQ morphine for extra relief. </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4269-0899-4547-BE80-CC80B6A902D6}"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63F2-B31E-4D30-9137-EBD630052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8262-9B17-49A2-95CD-431CDF81F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F558-CE99-45FD-9CDB-430B19F8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EB13D-7D1C-4B60-A4A4-5CC40B23E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F1394-A01D-4EE5-B125-A6A0BA882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09516-BDE6-4040-B114-2BE483833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52549-39EE-4A71-976D-E4EE3AFC2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63EB1-DD33-4EA4-966E-541399680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6EB81-78A8-4E8A-A227-58F1AAB50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7BF00-3AA0-42A2-BD42-5949E438B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A2E36-25F8-43DD-B3B4-5ACC9E957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90177-AF80-4F53-B29D-E505CC76C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87A3-D35A-473F-9A8E-6E1ACED0D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9181D-3416-401A-9BD2-0F89DA0BA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C8CD9-1613-4715-A5A2-57C241329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E6E2-E46F-467E-AF94-763476A95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BE344-EDCF-4905-AC7C-949E3F8F1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2A621-CEBA-4134-AF75-E17BA5BEF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6877-696D-40F1-9A66-56681DBC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AF0E2-601B-4600-96AE-8EBD5F5C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3F1F-16CF-4460-AF0A-61EE7093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3F1D3-5335-4F0D-A504-6889C971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CE64-50F8-41F3-9CE5-52A05EC26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67E5-E7CA-4813-B24D-BD08F4F8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0DC7-8F3E-4E53-ADE0-5E88702D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454C-0AB4-47DA-967E-2F2744F4DB8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4B14-0CEE-46C0-A28F-02B0CA5F20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427280" y="765000"/>
            <a:ext cx="4645080" cy="31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ducation Exercises</a:t>
            </a:r>
            <a:br>
              <a:rPr sz="4000"/>
            </a:br>
            <a:r>
              <a:rPr b="1" lang="en-US" sz="4000" spc="-1" strike="noStrike">
                <a:solidFill>
                  <a:srgbClr val="006633"/>
                </a:solidFill>
                <a:latin typeface="Garamond"/>
              </a:rPr>
              <a:t>for Nurses and Paramedics</a:t>
            </a:r>
            <a:endParaRPr b="0" lang="en-US" sz="4000" spc="-1" strike="noStrike">
              <a:solidFill>
                <a:srgbClr val="006633"/>
              </a:solidFill>
              <a:latin typeface="Garamond"/>
            </a:endParaRPr>
          </a:p>
        </p:txBody>
      </p:sp>
      <p:pic>
        <p:nvPicPr>
          <p:cNvPr id="94" name="Picture 1" descr=""/>
          <p:cNvPicPr/>
          <p:nvPr/>
        </p:nvPicPr>
        <p:blipFill>
          <a:blip r:embed="rId1"/>
          <a:stretch/>
        </p:blipFill>
        <p:spPr>
          <a:xfrm>
            <a:off x="250920" y="250920"/>
            <a:ext cx="4105080" cy="6300720"/>
          </a:xfrm>
          <a:prstGeom prst="rect">
            <a:avLst/>
          </a:prstGeom>
          <a:ln w="0">
            <a:noFill/>
          </a:ln>
        </p:spPr>
      </p:pic>
      <p:sp>
        <p:nvSpPr>
          <p:cNvPr id="95" name="Title 1"/>
          <p:cNvSpPr/>
          <p:nvPr/>
        </p:nvSpPr>
        <p:spPr>
          <a:xfrm>
            <a:off x="4716360" y="4292640"/>
            <a:ext cx="3959280" cy="204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Clinical Practice Guidel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anagement of Cancer 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ide Effects of Morphine</a:t>
            </a:r>
            <a:endParaRPr b="0" lang="en-US" sz="4200" spc="-1" strike="noStrike">
              <a:solidFill>
                <a:srgbClr val="006633"/>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 B has liver cancer &amp; pain in the RHC. He has just been started on morphine. You are the nurse in charge &amp; are assessing how he tolerates the morphine &amp; must help educating him about the side effects of morphi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ide Effects of Morphine</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Saya tak boleh ambil ubat ini. Tiap-tiap kali saya makan ubat ini, mesti muntah.” </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Saya rasa mengantuk sangat lepas ambil morphine ini. Bahaya tak ubat ini?”</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Ubat ini susahlah. Lepas ambil morphine mesti susah buang air bes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Using Morphine Regularly</a:t>
            </a:r>
            <a:endParaRPr b="0" lang="en-US" sz="4200" spc="-1" strike="noStrike">
              <a:solidFill>
                <a:srgbClr val="006633"/>
              </a:solidFill>
              <a:latin typeface="Garamond"/>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Sakit saya memang teruk lagi. Bila saya ambil morphine, adalah kurang sikit tapi sekejap saja. Lepas 2 jam, dah sakit balik. Tak gunalah ubat in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ears of Tolerance &amp; Addiction</a:t>
            </a:r>
            <a:endParaRPr b="0" lang="en-US" sz="4200" spc="-1" strike="noStrike">
              <a:solidFill>
                <a:srgbClr val="006633"/>
              </a:solidFill>
              <a:latin typeface="Garamond"/>
            </a:endParaRPr>
          </a:p>
        </p:txBody>
      </p:sp>
      <p:sp>
        <p:nvSpPr>
          <p:cNvPr id="10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api kalau saya ambil morphine banyak kali tak bahaya ke? Nanti bila guna lama-lama, ada tak kesan lain pulak?”</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da orang cakap ubat morphine ini sama dengan penagihan dadah. Bolehkah saya jadi ketagih macam in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Using Transdermal Fentanyl</a:t>
            </a:r>
            <a:endParaRPr b="0" lang="en-US" sz="4200" spc="-1" strike="noStrike">
              <a:solidFill>
                <a:srgbClr val="006633"/>
              </a:solidFill>
              <a:latin typeface="Garamond"/>
            </a:endParaRPr>
          </a:p>
        </p:txBody>
      </p:sp>
      <p:sp>
        <p:nvSpPr>
          <p:cNvPr id="10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n. S is a 56 year old lady with advanced oral cancer. She cannot swallow anymore &amp; is now started on transdermal fentanyl. You are the nurse asked to teach her how to use thi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Using SR Morphine </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r. P is an 80 year old man with advanced prostate cancer. He has been on aq morphine 10mg 4 hourly with good pain control &amp; is now changed to SR morphine 30mg bd. He is confused as to why he is on a tablet now &amp; you must explain to him the difference with SR morphine &amp; how to take it. Also explain about breakthrough pain &amp; what to take for i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1042920" y="206064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33"/>
                </a:solidFill>
                <a:latin typeface="Garamond"/>
                <a:ea typeface="Meiryo"/>
              </a:rPr>
              <a:t>Thank You</a:t>
            </a:r>
            <a:endParaRPr b="0" lang="en-US" sz="7200" spc="-1" strike="noStrike">
              <a:solidFill>
                <a:srgbClr val="000000"/>
              </a:solidFill>
              <a:latin typeface="Arial"/>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C298-AD15-4D1C-A47D-2B3FD4055FA9}" type="slidenum">
              <a:rPr b="0" lang="en-MY"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6:44:01Z</dcterms:created>
  <dc:creator>User</dc:creator>
  <dc:description/>
  <dc:language>en-US</dc:language>
  <cp:lastModifiedBy>Dr.Amin</cp:lastModifiedBy>
  <dcterms:modified xsi:type="dcterms:W3CDTF">2011-06-07T09:11:26Z</dcterms:modified>
  <cp:revision>222</cp:revision>
  <dc:subject/>
  <dc:title>An Evidence Based and Practical Approach to the Management of Cancer Pain in Malaysia</dc:title>
</cp:coreProperties>
</file>