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2A76-E88A-4B2F-8C28-54CFB39CCBD9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ronic cancer pain where it may be necessary to use for long periods monitoring (renal function , GI disturbance etc.) is recommended. Consider weak opioid as alternative if there are side eff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D9DD-6D1B-4880-A489-57870A6B3720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0489-7D28-421A-A8C8-6E60AA2CD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22D2-663B-4B97-9939-1F25E6EDE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41A4-CA9C-42BE-9AAB-C348A4CA0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861C-F47F-4C7A-81E2-8788DD36CC46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11B6-3940-400D-AD7F-1CAD47B88C8D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EB57-7278-45C4-B278-45F7560CFE94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6854-EC38-431C-A27D-AC85A8677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20BB-E08B-47E1-87F7-F6B0D78518A5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0A1-DD49-4913-B104-088044F1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C88-4756-4E1F-9FF3-879AF410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EF7-8832-4CFF-9B8B-982B133F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D6D-1A29-44AC-B197-2EFE6FEE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1A75-ACE1-41CB-ACA8-B73A1EFC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9496-BE5E-49FB-A5B8-91B3FF63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696D-34FD-4B6C-960F-3CDEF072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FDAA-B6DC-4D3A-BAE6-217EE0C7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1CDF-2476-4376-A58C-10743542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FABA-717F-4BF7-A548-EF938A13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B161-DE46-4427-8EBE-5D97ED80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0A3-019C-4714-A49C-A1EA5709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5620-7564-4671-A6A2-77EDAD48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3412-8DD9-462B-9F89-301D6842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158B-9F50-49DD-8492-E5D11FE8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0FDD-0E24-4F44-8FD2-67B9C6D1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9060-4457-49D5-B63B-17EE5A6B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CD9-8138-48AE-9672-B149FE9B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8B3-2731-4B41-9E31-68B8328E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D72-700D-4573-9E1D-0C92DB9B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339-2071-4557-9C3E-2A302E6F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4FF-601C-4804-B4DA-5C0B394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986-CF1E-44BD-824A-3E3B5B3C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F34-C202-454D-865C-5FBF2E8C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C4F6-52B9-4FEB-8089-B071B1D2849C}" type="datetime">
              <a:rPr b="0" lang="en-MY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3A68-1425-4253-A536-03E824E34BE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58C4-140D-4234-91AD-D7AD12D2C5A2}" type="datetime">
              <a:rPr b="0" lang="en-MY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FC81-710E-4C4E-8F5D-0CFDAFE84C5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mericangeriatrics.org/education/pharm_management.shtml" TargetMode="External"/><Relationship Id="rId2" Type="http://schemas.openxmlformats.org/officeDocument/2006/relationships/hyperlink" Target="http://www.americangeriatrics.org/education/pharm_management.s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7280" y="765000"/>
            <a:ext cx="4645080" cy="31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PHARMACOLOGICAL TREATMENT OF CANCER PAIN 1 – USING OPIOID ANALGESIA 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50920" y="250920"/>
            <a:ext cx="4105080" cy="6300720"/>
          </a:xfrm>
          <a:prstGeom prst="rect">
            <a:avLst/>
          </a:prstGeom>
          <a:ln w="0">
            <a:noFill/>
          </a:ln>
        </p:spPr>
      </p:pic>
      <p:sp>
        <p:nvSpPr>
          <p:cNvPr id="95" name="Title 1"/>
          <p:cNvSpPr/>
          <p:nvPr/>
        </p:nvSpPr>
        <p:spPr>
          <a:xfrm>
            <a:off x="4716360" y="4292640"/>
            <a:ext cx="395928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Clinical Practice Guid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Management of Cancer Pain  Development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7ABD-B7C3-482E-BD58-D7973C1CAB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Paracetamol or NSAIDs are the drugs of choice for mild cancer pain (Step 1 of the WHO analgesic ladder). </a:t>
            </a:r>
            <a:r>
              <a:rPr b="1" lang="en-MY" sz="3000" spc="-1" strike="noStrike">
                <a:solidFill>
                  <a:srgbClr val="000000"/>
                </a:solidFill>
                <a:latin typeface="Arial"/>
              </a:rPr>
              <a:t>(Grade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Paracetamol should be used in combination with opioids in the other steps of WHO analgesic ladder unless contraindicated. </a:t>
            </a:r>
            <a:r>
              <a:rPr b="1" lang="en-MY" sz="3000" spc="-1" strike="noStrike">
                <a:solidFill>
                  <a:srgbClr val="000000"/>
                </a:solidFill>
                <a:latin typeface="Arial"/>
              </a:rPr>
              <a:t>(Grade 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tep 1 Analgesic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55EA-60EB-416D-B3C3-F8632FB887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Use of paracetamol may result in synergistic effects when used together with opioid analgesics, producing better pain relief &amp; lower incidence of opioid-related side effect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Arial"/>
              </a:rPr>
              <a:t>1, level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tep 1 Analgesic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3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457200" y="6237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Stockler M et al., J Clin Oncol, 200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7165-FBD1-438A-AE48-DE8A8CD162D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13460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In view of potential side effects (GI, CVS, nephrotoxicity), it is recommended that the lowest effective dose of NSAIDs or Cox-2 inhibitors should be prescribed for the shortest period to control symp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The risks increase with long-term use, in the elderly &amp; those with co-morbid medical illnesse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</a:rPr>
              <a:t>1, level I; 2, level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tep 1 Analgesic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4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457200" y="6237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MY" sz="1300" spc="-1" strike="noStrike">
                <a:solidFill>
                  <a:srgbClr val="000000"/>
                </a:solidFill>
                <a:latin typeface="Arial"/>
                <a:ea typeface="Arial"/>
              </a:rPr>
              <a:t>AGS Clinical Practice Guideline at </a:t>
            </a:r>
            <a:r>
              <a:rPr b="0" lang="en-MY" sz="13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MY" sz="13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"/>
              </a:rPr>
              <a:t>www.americangeriatrics.org/education/pharm_management.s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MY" sz="1300" spc="-1" strike="noStrike">
                <a:solidFill>
                  <a:srgbClr val="000000"/>
                </a:solidFill>
                <a:latin typeface="Arial"/>
                <a:ea typeface="Arial"/>
              </a:rPr>
              <a:t>McNicol E  et al., J Clin Oncol, 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B7A6-3055-4DF7-8365-5301E97431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1476360" y="1484280"/>
            <a:ext cx="60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Step 2 Analges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Weak-Opioid Analges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1890-F574-40AB-A57F-7D82990A64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tep 2 Analgesic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Weak opioids should be used in mild to moderate cancer pain (Step 2 of the WHO analgesic ladder). </a:t>
            </a:r>
            <a:r>
              <a:rPr b="1" lang="en-MY" sz="3000" spc="-1" strike="noStrike">
                <a:solidFill>
                  <a:srgbClr val="000000"/>
                </a:solidFill>
                <a:latin typeface="Arial"/>
              </a:rPr>
              <a:t>(Grade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2E44-24FC-45F5-AEB3-D9CF46EA81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Although the distinction between weak &amp; strong opioids is arbitrary, weak opioids which includ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</a:rPr>
              <a:t>Tramad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</a:rPr>
              <a:t>Dihydrocode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</a:rPr>
              <a:t>Code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are mainly used for mild to moderate cancer p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tep 2 Analgesic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03AB-0C69-41BC-A475-D7365AF2BCC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There is no evidence demonstrating superiority of one weak opioid over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s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madol 50 – 100 mg 6 - 8 hourly</a:t>
            </a: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 (max: 400 mg/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118 30 – 60 mg 6 - 8 hourly (max: 240 mg/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adeine (500 mg PCM + 8 mg Codeine) 1 - 2 tabs 6 - 8 hourly (max: 8 tab/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tracet (325 mg PCM + 37.5 mg tramadol) 1 - 2 tabs 6 - 8 hourly (max: 8 tab/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tep 2 Analgesic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3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4AF-4BFD-4B16-8864-E42769307CA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476360" y="1484280"/>
            <a:ext cx="60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Step 3 Analges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Strong Opioid Analges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74FF-45C3-43FC-BBDE-F90A723F45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tep 3 Analgesic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p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xycod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ntany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5CFE-6FF4-4A53-BF1D-A99CB3B1B1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tep 3 Analgesic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Oral morphine should be the first line therapy for moderate to severe cancer pain. </a:t>
            </a:r>
            <a:r>
              <a:rPr b="1" lang="en-MY" sz="28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Oxycodone &amp; fentanyl are alternatives to morphine for moderate to severe cancer pain. </a:t>
            </a:r>
            <a:r>
              <a:rPr b="1" lang="en-MY" sz="28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Transdermal fentanyl should only be considered for use when opioid requirements are stable. </a:t>
            </a:r>
            <a:r>
              <a:rPr b="1" lang="en-MY" sz="28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D8D6-F999-47BA-8DE9-80A6B00EF4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earning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principles pharmacological treatment of cancer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familiar in applying the WHO analgesic 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common drugs used to treat cancer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the principles of using opioid therapy for cancer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ral Morph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87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mediate Release (IR) /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queous morp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s in 30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ation of action 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for initiating &amp; titrating opioid analges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for breakthrough 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3280" y="1196640"/>
            <a:ext cx="4114800" cy="487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tained Release (SR) Morp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s about 2 - 4 hours for drug to take ef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ation of action 12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for maintaining regular analgesia &amp; cannot be used for breakthrough p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ver cut, crush or chew slow release tabl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2F05-B78A-4E75-AF92-01A4454688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6774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ansdermal Fentanyl (12, 25, 50 mcg/h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504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ain ind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781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lerable side effects to morp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781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l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781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ble to tolerate o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used in acute p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only be used when opioid requirements are 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N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se of opioids before starting – at least 30 mg oral morphine daily to start 12 mcg/h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36A1-3FC0-42AF-B903-4ECD43E499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xycod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opioid rotation in patients intolerant to morp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immediate release (IR) &amp; controlled release preparations (C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x more potent than morp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additional benefit in neuropathic pain due to effects on kappa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1868-DA60-4DD9-82B4-96550EAF377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468360" y="155736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5400" spc="-1" strike="noStrike">
                <a:solidFill>
                  <a:srgbClr val="006633"/>
                </a:solidFill>
                <a:latin typeface="Garamond"/>
              </a:rPr>
              <a:t>Prescribing &amp; Titration of Morphine &amp; Other Strong Opi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1DF6-39BA-482A-A948-8DCE427B1DC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rescribing Morph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157320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phine therapy should be titrated according to individual analgesic response &amp; occurrence of side effect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Grade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phine therapy should be initiated at the dose of 5 - 10 mg 4-hourly using the oral IR formulation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Grade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derly, a lower starting dose of 2.5 - 5 mg 4 – 6-hourly of the IR formulation should be used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Grade 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1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8AFC-1F0E-4103-90E1-F6A01D93705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rphine Titratio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385640"/>
            <a:ext cx="83534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pioid-naive patients, opioid therapy should start at the lowest level &amp; individualised treatment remains the best method based upon severity of the pain, the patient’s medical condition &amp; the goals of care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, level II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est method of dose titration is using regular 4-hourly IR oral morphine &amp; additional similar doses given as needed for breakthrough pain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gular dose is then adjusted to take into account the total daily dose of morphine required within 24 hou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, level III; 3, level I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457200" y="61657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rcadante S et al., J Pain Symptom Manage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Hanks GW et al., Br J Cancer, 20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De Conno F et al., Palliat Med. 20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2ECB-496F-4473-AB1F-A17E01DC5F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rphine Titratio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57280"/>
            <a:ext cx="82296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se of 5 mg  4-hourly of IR oral morphine in opioid naive patients &amp; 10 mg 4-hourly in patients tolerant to weak opioids (already on regular tramadol or dihydrocodeine) has been shown to be safe &amp; effectiv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0.01) as a starting dose of morphine therapy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, level II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lderly opioid naive patients, a lower starting dose of 2.5 mg 4 – 6-hourly of IR oral morphine (10 - 15 mg in 24 hours) has been shown to be effectiv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0.01) &amp; safe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,  level Ii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457200" y="623736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 Conno F et al., Palliat Med.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cadante S et al., J Pain Symptom Manage,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8964-4B27-4C60-800E-2D933E9843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3"/>
          <p:cNvSpPr/>
          <p:nvPr/>
        </p:nvSpPr>
        <p:spPr>
          <a:xfrm>
            <a:off x="612720" y="836640"/>
            <a:ext cx="799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Rounded MT Bold"/>
              </a:rPr>
              <a:t>But my patient is screaming &amp; crying in pain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Rounded MT Bold"/>
              </a:rPr>
              <a:t>The oral morphine is taking too long to work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10EB-B298-4194-A192-25922449258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arenteral Opioi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573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phine &amp; fentanyl may be used intravenously (IV) or subcutaneously (S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There is no difference in efficacy or side effects between continuous infusion &amp; intermittent SC opioids for cancer pain</a:t>
            </a:r>
            <a:r>
              <a:rPr b="0" i="1" lang="en-MY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</a:rPr>
              <a:t>1, level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SC morphine has similar efficacy as IV morphine &amp; both are safe &amp; well tolerated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</a:rPr>
              <a:t>2, level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457200" y="623736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Watanabe S et al., J Palliat Med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Elsner F et al., J Palliat Med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63E5-F8B4-4D34-BBF4-CF39D336187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apid Titratio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1788840"/>
            <a:ext cx="8229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1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titration using IV or SC morphine is preferred in patients presenting with severe cancer pain for initial control of pain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Grade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BD72-B340-401A-B041-0CD8266BFD8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rinci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the Mou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the Cl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the Lad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CB7C-1F51-4BDA-BB4E-552A182681C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971640" y="189000"/>
            <a:ext cx="7993080" cy="6669000"/>
            <a:chOff x="971640" y="189000"/>
            <a:chExt cx="7993080" cy="6669000"/>
          </a:xfrm>
        </p:grpSpPr>
        <p:sp>
          <p:nvSpPr>
            <p:cNvPr id="186" name="AutoShape 33"/>
            <p:cNvSpPr/>
            <p:nvPr/>
          </p:nvSpPr>
          <p:spPr>
            <a:xfrm>
              <a:off x="971640" y="189000"/>
              <a:ext cx="7993080" cy="66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32"/>
            <p:cNvSpPr/>
            <p:nvPr/>
          </p:nvSpPr>
          <p:spPr>
            <a:xfrm>
              <a:off x="3378960" y="189000"/>
              <a:ext cx="1618200" cy="5151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evere Pain PS ≥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31"/>
            <p:cNvSpPr/>
            <p:nvPr/>
          </p:nvSpPr>
          <p:spPr>
            <a:xfrm>
              <a:off x="1155240" y="2095560"/>
              <a:ext cx="2284200" cy="279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V Morphine 1 - 2 mg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30"/>
            <p:cNvSpPr/>
            <p:nvPr/>
          </p:nvSpPr>
          <p:spPr>
            <a:xfrm>
              <a:off x="4973040" y="2095560"/>
              <a:ext cx="2283120" cy="279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C Morphine 2.5 - 5 mg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9"/>
            <p:cNvSpPr/>
            <p:nvPr/>
          </p:nvSpPr>
          <p:spPr>
            <a:xfrm>
              <a:off x="1155240" y="2670120"/>
              <a:ext cx="2284200" cy="3254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eassess after 5 - 10 min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8"/>
            <p:cNvSpPr/>
            <p:nvPr/>
          </p:nvSpPr>
          <p:spPr>
            <a:xfrm>
              <a:off x="4973040" y="2670120"/>
              <a:ext cx="2283120" cy="2876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eassess after 15 - 30 m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AutoShape 27"/>
            <p:cNvCxnSpPr/>
            <p:nvPr/>
          </p:nvCxnSpPr>
          <p:spPr>
            <a:xfrm>
              <a:off x="2297160" y="2374560"/>
              <a:ext cx="1440" cy="29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AutoShape 26"/>
            <p:cNvCxnSpPr/>
            <p:nvPr/>
          </p:nvCxnSpPr>
          <p:spPr>
            <a:xfrm>
              <a:off x="6114960" y="2374560"/>
              <a:ext cx="1440" cy="29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AutoShape 25"/>
            <p:cNvSpPr/>
            <p:nvPr/>
          </p:nvSpPr>
          <p:spPr>
            <a:xfrm>
              <a:off x="1344240" y="4428360"/>
              <a:ext cx="1607400" cy="367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ersistent pai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4"/>
            <p:cNvSpPr/>
            <p:nvPr/>
          </p:nvSpPr>
          <p:spPr>
            <a:xfrm>
              <a:off x="3502800" y="4428360"/>
              <a:ext cx="1761480" cy="533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cceptable pain relie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23"/>
            <p:cNvSpPr/>
            <p:nvPr/>
          </p:nvSpPr>
          <p:spPr>
            <a:xfrm>
              <a:off x="3267720" y="5912280"/>
              <a:ext cx="2262240" cy="6984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nvert to regular four hourly morp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2"/>
            <p:cNvSpPr/>
            <p:nvPr/>
          </p:nvSpPr>
          <p:spPr>
            <a:xfrm>
              <a:off x="3530160" y="3396600"/>
              <a:ext cx="1713600" cy="629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  </a:t>
              </a:r>
              <a:r>
                <a:rPr b="0" lang="en-GB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Pain sc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  </a:t>
              </a:r>
              <a:r>
                <a:rPr b="0" lang="en-GB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Respiratory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  </a:t>
              </a:r>
              <a:r>
                <a:rPr b="0" lang="en-GB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Sedation score*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21"/>
            <p:cNvSpPr/>
            <p:nvPr/>
          </p:nvSpPr>
          <p:spPr>
            <a:xfrm>
              <a:off x="2952000" y="1004400"/>
              <a:ext cx="2462760" cy="8006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vailability of IV ac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20"/>
            <p:cNvSpPr/>
            <p:nvPr/>
          </p:nvSpPr>
          <p:spPr>
            <a:xfrm>
              <a:off x="5820840" y="4428360"/>
              <a:ext cx="2140920" cy="668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dverse effect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espiratory rate &lt; 8 / m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edation score &gt; 2*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9"/>
            <p:cNvSpPr/>
            <p:nvPr/>
          </p:nvSpPr>
          <p:spPr>
            <a:xfrm>
              <a:off x="5873760" y="5244840"/>
              <a:ext cx="2058840" cy="4366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top titr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onitor vital sig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8"/>
            <p:cNvSpPr/>
            <p:nvPr/>
          </p:nvSpPr>
          <p:spPr>
            <a:xfrm>
              <a:off x="3475080" y="5173200"/>
              <a:ext cx="1836360" cy="547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ecord total dose of morphine u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AutoShape 17"/>
            <p:cNvCxnSpPr/>
            <p:nvPr/>
          </p:nvCxnSpPr>
          <p:spPr>
            <a:xfrm flipH="1">
              <a:off x="4182480" y="703800"/>
              <a:ext cx="5400" cy="30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3" name="AutoShape 16"/>
            <p:cNvSpPr/>
            <p:nvPr/>
          </p:nvSpPr>
          <p:spPr>
            <a:xfrm>
              <a:off x="2416680" y="1523160"/>
              <a:ext cx="631800" cy="25632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5"/>
            <p:cNvSpPr/>
            <p:nvPr/>
          </p:nvSpPr>
          <p:spPr>
            <a:xfrm>
              <a:off x="5438520" y="1523160"/>
              <a:ext cx="570960" cy="25632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AutoShape 14"/>
            <p:cNvCxnSpPr/>
            <p:nvPr/>
          </p:nvCxnSpPr>
          <p:spPr>
            <a:xfrm flipH="1" rot="16200000">
              <a:off x="3140640" y="2150640"/>
              <a:ext cx="401400" cy="2090520"/>
            </a:xfrm>
            <a:prstGeom prst="bentConnector3">
              <a:avLst>
                <a:gd name="adj1" fmla="val 4991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AutoShape 13"/>
            <p:cNvCxnSpPr/>
            <p:nvPr/>
          </p:nvCxnSpPr>
          <p:spPr>
            <a:xfrm rot="5400000">
              <a:off x="5027760" y="2313000"/>
              <a:ext cx="439200" cy="1728360"/>
            </a:xfrm>
            <a:prstGeom prst="bentConnector3">
              <a:avLst>
                <a:gd name="adj1" fmla="val 530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AutoShape 12"/>
            <p:cNvCxnSpPr/>
            <p:nvPr/>
          </p:nvCxnSpPr>
          <p:spPr>
            <a:xfrm rot="5400000">
              <a:off x="3066120" y="3107520"/>
              <a:ext cx="402840" cy="2239200"/>
            </a:xfrm>
            <a:prstGeom prst="bentConnector3">
              <a:avLst>
                <a:gd name="adj1" fmla="val 4991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AutoShape 11"/>
            <p:cNvCxnSpPr/>
            <p:nvPr/>
          </p:nvCxnSpPr>
          <p:spPr>
            <a:xfrm flipH="1" rot="16200000">
              <a:off x="5438160" y="2974320"/>
              <a:ext cx="402840" cy="2504880"/>
            </a:xfrm>
            <a:prstGeom prst="bentConnector3">
              <a:avLst>
                <a:gd name="adj1" fmla="val 4991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AutoShape 10"/>
            <p:cNvCxnSpPr/>
            <p:nvPr/>
          </p:nvCxnSpPr>
          <p:spPr>
            <a:xfrm flipH="1">
              <a:off x="4383360" y="4025520"/>
              <a:ext cx="3960" cy="40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AutoShape 9"/>
            <p:cNvCxnSpPr/>
            <p:nvPr/>
          </p:nvCxnSpPr>
          <p:spPr>
            <a:xfrm>
              <a:off x="4383720" y="4961880"/>
              <a:ext cx="10440" cy="21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AutoShape 8"/>
            <p:cNvCxnSpPr/>
            <p:nvPr/>
          </p:nvCxnSpPr>
          <p:spPr>
            <a:xfrm>
              <a:off x="6891120" y="5096160"/>
              <a:ext cx="12600" cy="14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AutoShape 7"/>
            <p:cNvCxnSpPr/>
            <p:nvPr/>
          </p:nvCxnSpPr>
          <p:spPr>
            <a:xfrm>
              <a:off x="4393440" y="5721120"/>
              <a:ext cx="612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3" name="AutoShape 6"/>
            <p:cNvCxnSpPr/>
            <p:nvPr/>
          </p:nvCxnSpPr>
          <p:spPr>
            <a:xfrm flipV="1" rot="10800000">
              <a:off x="2296440" y="1404360"/>
              <a:ext cx="655200" cy="691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" name="AutoShape 5"/>
            <p:cNvCxnSpPr/>
            <p:nvPr/>
          </p:nvCxnSpPr>
          <p:spPr>
            <a:xfrm>
              <a:off x="5414760" y="1404720"/>
              <a:ext cx="700200" cy="691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AutoShape 4"/>
            <p:cNvCxnSpPr/>
            <p:nvPr/>
          </p:nvCxnSpPr>
          <p:spPr>
            <a:xfrm flipH="1">
              <a:off x="1085760" y="4612320"/>
              <a:ext cx="258480" cy="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6" name="AutoShape 3"/>
            <p:cNvCxnSpPr/>
            <p:nvPr/>
          </p:nvCxnSpPr>
          <p:spPr>
            <a:xfrm flipV="1">
              <a:off x="1086120" y="445680"/>
              <a:ext cx="1440" cy="416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7" name="AutoShape 2"/>
            <p:cNvCxnSpPr/>
            <p:nvPr/>
          </p:nvCxnSpPr>
          <p:spPr>
            <a:xfrm>
              <a:off x="1086480" y="445680"/>
              <a:ext cx="2292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8" name="TextBox 35"/>
          <p:cNvSpPr/>
          <p:nvPr/>
        </p:nvSpPr>
        <p:spPr>
          <a:xfrm>
            <a:off x="5508720" y="404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gorithm for Rapid Titration of Morphine for Pain in 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C0E8-81F3-4962-965C-0479A6298479}" type="slidenum">
              <a:rPr b="0" lang="en-MY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1280" cy="4392720"/>
          </a:xfrm>
          <a:prstGeom prst="rect">
            <a:avLst/>
          </a:prstGeom>
          <a:ln w="0">
            <a:noFill/>
          </a:ln>
        </p:spPr>
      </p:pic>
      <p:sp>
        <p:nvSpPr>
          <p:cNvPr id="221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CEB9-7A4F-4459-99B3-3D32368499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11280" y="164628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Maintenance Therapy &amp; Breakthrough Pain 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E33E-99B8-4F2F-8284-10848F9C3B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aintenance &amp; Breakthrough Therap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9640" y="1699920"/>
            <a:ext cx="8229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chronic cancer pain should receive regular ‘around the clock’ (ATC) opioid therapy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Grade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Once the effective 24 hours dose is established,   patients may be converted to a 12-hourly SR formulation. </a:t>
            </a:r>
            <a:r>
              <a:rPr b="1" lang="en-MY" sz="24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cue medication for breakthrough pain should be available for all patients with chronic cancer pain at a dose between 1/12 &amp; 1/6 of the total 24-hour dos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Grade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D6E7-AD27-468A-8C7B-A405089A6BF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aintenance Analges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000" y="1414080"/>
            <a:ext cx="8351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s with chronic cancer pain on oral IR morphine should receive regular 4-hourly doses to maintain continuous analgesia.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</a:rPr>
              <a:t>For patients on IR morphine every 4-hours, a double dose at bedtime is recommended for convenience to prevent being woken up by pain at night.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, level III,2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level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ce the effective 24 hours dose is established, the regime may be converted to a 12-hourly SR formulation of the equivalent 24 hour dose.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no difference in efficacy between IR &amp; SR morphine.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, level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457200" y="6164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anks GW et al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.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r J Cancer,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Dale O et al., J Pain Symptom Manage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ffen PJ et al., Cochrane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46F3-9028-4365-B737-0962D9DEA91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reakthrough Pai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Breakthrough pain is defined as a transient exacerbation of pain that occurs either spontaneously or in relation to a specific trigger (predictable or unpredictable) despite relatively stable &amp; adequately controlled background p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N morphine can be given as frequently as every 1 hou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C982-A1E1-45E6-9AAB-ED404CAF6C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reakthrough Pai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Characteristics of breakthrough pa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rapid onset (reaching maximum severity within 1 to 3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short in duration (most subsiding within 30 minut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severe in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Arial"/>
              </a:rPr>
              <a:t>Patients on ATC dosing will also require additional ‘rescue‘ medication for breakthrough p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C882-4FF1-4352-92C3-F24507C4E9C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AutoShape 59"/>
          <p:cNvCxnSpPr/>
          <p:nvPr/>
        </p:nvCxnSpPr>
        <p:spPr>
          <a:xfrm flipH="1">
            <a:off x="6369840" y="3141360"/>
            <a:ext cx="2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AutoShape 52"/>
          <p:cNvCxnSpPr/>
          <p:nvPr/>
        </p:nvCxnSpPr>
        <p:spPr>
          <a:xfrm flipH="1">
            <a:off x="4210920" y="4149720"/>
            <a:ext cx="1080" cy="518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AutoShape 52"/>
          <p:cNvCxnSpPr/>
          <p:nvPr/>
        </p:nvCxnSpPr>
        <p:spPr>
          <a:xfrm flipH="1">
            <a:off x="2050200" y="4640040"/>
            <a:ext cx="108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40" name="Group 43"/>
          <p:cNvGrpSpPr/>
          <p:nvPr/>
        </p:nvGrpSpPr>
        <p:grpSpPr>
          <a:xfrm>
            <a:off x="1258920" y="333360"/>
            <a:ext cx="6595560" cy="6264360"/>
            <a:chOff x="1258920" y="333360"/>
            <a:chExt cx="6595560" cy="6264360"/>
          </a:xfrm>
        </p:grpSpPr>
        <p:sp>
          <p:nvSpPr>
            <p:cNvPr id="241" name="Oval 44"/>
            <p:cNvSpPr/>
            <p:nvPr/>
          </p:nvSpPr>
          <p:spPr>
            <a:xfrm>
              <a:off x="3708000" y="333360"/>
              <a:ext cx="1622880" cy="444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Cancer Patient with P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AutoShape 45"/>
            <p:cNvCxnSpPr/>
            <p:nvPr/>
          </p:nvCxnSpPr>
          <p:spPr>
            <a:xfrm>
              <a:off x="4572000" y="781200"/>
              <a:ext cx="1440" cy="1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Rectangle 46"/>
            <p:cNvSpPr/>
            <p:nvPr/>
          </p:nvSpPr>
          <p:spPr>
            <a:xfrm>
              <a:off x="2773080" y="936000"/>
              <a:ext cx="3585600" cy="22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Assessment - History/Physical Examination/Investig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4" name="AutoShape 47"/>
            <p:cNvCxnSpPr/>
            <p:nvPr/>
          </p:nvCxnSpPr>
          <p:spPr>
            <a:xfrm>
              <a:off x="4572000" y="1158840"/>
              <a:ext cx="1440" cy="1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5" name="Rectangle 48"/>
            <p:cNvSpPr/>
            <p:nvPr/>
          </p:nvSpPr>
          <p:spPr>
            <a:xfrm>
              <a:off x="3140280" y="1341360"/>
              <a:ext cx="2943720" cy="64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Diagno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Type - Nociceptive/Neuropathic/Mix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Source -  Cancer-related/non cancer-rel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Severity – Pain scor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AutoShape 49"/>
            <p:cNvCxnSpPr/>
            <p:nvPr/>
          </p:nvCxnSpPr>
          <p:spPr>
            <a:xfrm>
              <a:off x="4572000" y="1967040"/>
              <a:ext cx="1440" cy="1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7" name="Rectangle 50"/>
            <p:cNvSpPr/>
            <p:nvPr/>
          </p:nvSpPr>
          <p:spPr>
            <a:xfrm>
              <a:off x="3923640" y="2120760"/>
              <a:ext cx="1339560" cy="20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Pain score (P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AutoShape 51"/>
            <p:cNvCxnSpPr/>
            <p:nvPr/>
          </p:nvCxnSpPr>
          <p:spPr>
            <a:xfrm>
              <a:off x="4607640" y="2329200"/>
              <a:ext cx="1080" cy="12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9" name="AutoShape 52"/>
            <p:cNvCxnSpPr/>
            <p:nvPr/>
          </p:nvCxnSpPr>
          <p:spPr>
            <a:xfrm flipH="1">
              <a:off x="2021760" y="2454840"/>
              <a:ext cx="1080" cy="51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" name="AutoShape 53"/>
            <p:cNvCxnSpPr/>
            <p:nvPr/>
          </p:nvCxnSpPr>
          <p:spPr>
            <a:xfrm flipH="1">
              <a:off x="6321240" y="2462760"/>
              <a:ext cx="1080" cy="51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1" name="Rectangle 54"/>
            <p:cNvSpPr/>
            <p:nvPr/>
          </p:nvSpPr>
          <p:spPr>
            <a:xfrm>
              <a:off x="1366560" y="2763720"/>
              <a:ext cx="133956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Mild Cancer P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(Pain Score: 1 - 4)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55"/>
            <p:cNvSpPr/>
            <p:nvPr/>
          </p:nvSpPr>
          <p:spPr>
            <a:xfrm>
              <a:off x="3807000" y="2756160"/>
              <a:ext cx="157140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Moderate Cancer P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(Pain Score: 5 - 6)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56"/>
            <p:cNvSpPr/>
            <p:nvPr/>
          </p:nvSpPr>
          <p:spPr>
            <a:xfrm>
              <a:off x="5530680" y="2756160"/>
              <a:ext cx="157140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Severe Cancer P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(Pain Score: 7 - 10)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7"/>
            <p:cNvSpPr/>
            <p:nvPr/>
          </p:nvSpPr>
          <p:spPr>
            <a:xfrm>
              <a:off x="5565600" y="3398760"/>
              <a:ext cx="15714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MY" sz="1000" spc="-1" strike="noStrike">
                  <a:solidFill>
                    <a:srgbClr val="000000"/>
                  </a:solidFill>
                  <a:latin typeface="Calibri"/>
                </a:rPr>
                <a:t>WHO LAD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MY" sz="1000" spc="-1" strike="noStrike">
                  <a:solidFill>
                    <a:srgbClr val="000000"/>
                  </a:solidFill>
                  <a:latin typeface="Calibri"/>
                </a:rPr>
                <a:t>STEP II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58"/>
            <p:cNvSpPr/>
            <p:nvPr/>
          </p:nvSpPr>
          <p:spPr>
            <a:xfrm>
              <a:off x="3410280" y="3767400"/>
              <a:ext cx="1571400" cy="38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MY" sz="1000" spc="-1" strike="noStrike">
                  <a:solidFill>
                    <a:srgbClr val="000000"/>
                  </a:solidFill>
                  <a:latin typeface="Calibri"/>
                </a:rPr>
                <a:t>WHO LAD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MY" sz="1000" spc="-1" strike="noStrike">
                  <a:solidFill>
                    <a:srgbClr val="000000"/>
                  </a:solidFill>
                  <a:latin typeface="Calibri"/>
                </a:rPr>
                <a:t>STEP I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6" name="AutoShape 59"/>
            <p:cNvCxnSpPr/>
            <p:nvPr/>
          </p:nvCxnSpPr>
          <p:spPr>
            <a:xfrm>
              <a:off x="2041920" y="3128400"/>
              <a:ext cx="1080" cy="110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7" name="Rectangle 60"/>
            <p:cNvSpPr/>
            <p:nvPr/>
          </p:nvSpPr>
          <p:spPr>
            <a:xfrm>
              <a:off x="1258920" y="4230360"/>
              <a:ext cx="1571400" cy="42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MY" sz="1000" spc="-1" strike="noStrike">
                  <a:solidFill>
                    <a:srgbClr val="000000"/>
                  </a:solidFill>
                  <a:latin typeface="Calibri"/>
                </a:rPr>
                <a:t>WHO LAD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MY" sz="1000" spc="-1" strike="noStrike">
                  <a:solidFill>
                    <a:srgbClr val="000000"/>
                  </a:solidFill>
                  <a:latin typeface="Calibri"/>
                </a:rPr>
                <a:t>STEP 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61"/>
            <p:cNvSpPr/>
            <p:nvPr/>
          </p:nvSpPr>
          <p:spPr>
            <a:xfrm>
              <a:off x="1473840" y="4762800"/>
              <a:ext cx="1225440" cy="6822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Pain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62"/>
            <p:cNvSpPr/>
            <p:nvPr/>
          </p:nvSpPr>
          <p:spPr>
            <a:xfrm>
              <a:off x="3563640" y="4336560"/>
              <a:ext cx="1220040" cy="6822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Pain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63"/>
            <p:cNvSpPr/>
            <p:nvPr/>
          </p:nvSpPr>
          <p:spPr>
            <a:xfrm>
              <a:off x="5652000" y="3881520"/>
              <a:ext cx="1269000" cy="6822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Pain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4"/>
            <p:cNvSpPr/>
            <p:nvPr/>
          </p:nvSpPr>
          <p:spPr>
            <a:xfrm>
              <a:off x="3492000" y="6211440"/>
              <a:ext cx="1302120" cy="38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Follow-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65"/>
            <p:cNvCxnSpPr/>
            <p:nvPr/>
          </p:nvCxnSpPr>
          <p:spPr>
            <a:xfrm>
              <a:off x="4213800" y="5019120"/>
              <a:ext cx="1440" cy="119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Rectangle 66"/>
            <p:cNvSpPr/>
            <p:nvPr/>
          </p:nvSpPr>
          <p:spPr>
            <a:xfrm>
              <a:off x="6588720" y="5445720"/>
              <a:ext cx="1265760" cy="61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Refer to Palliative Care Team/Pain Special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AutoShape 67"/>
            <p:cNvCxnSpPr/>
            <p:nvPr/>
          </p:nvCxnSpPr>
          <p:spPr>
            <a:xfrm>
              <a:off x="2030400" y="2454480"/>
              <a:ext cx="430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5" name="AutoShape 68"/>
            <p:cNvCxnSpPr/>
            <p:nvPr/>
          </p:nvCxnSpPr>
          <p:spPr>
            <a:xfrm flipH="1">
              <a:off x="4607640" y="2454840"/>
              <a:ext cx="1440" cy="30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6" name="AutoShape 69"/>
            <p:cNvCxnSpPr/>
            <p:nvPr/>
          </p:nvCxnSpPr>
          <p:spPr>
            <a:xfrm>
              <a:off x="2636640" y="5050800"/>
              <a:ext cx="35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7" name="AutoShape 70"/>
            <p:cNvCxnSpPr/>
            <p:nvPr/>
          </p:nvCxnSpPr>
          <p:spPr>
            <a:xfrm flipV="1">
              <a:off x="2994120" y="3914640"/>
              <a:ext cx="1080" cy="113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8" name="AutoShape 71"/>
            <p:cNvCxnSpPr/>
            <p:nvPr/>
          </p:nvCxnSpPr>
          <p:spPr>
            <a:xfrm>
              <a:off x="2994120" y="3914640"/>
              <a:ext cx="407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AutoShape 73"/>
            <p:cNvCxnSpPr/>
            <p:nvPr/>
          </p:nvCxnSpPr>
          <p:spPr>
            <a:xfrm flipV="1">
              <a:off x="5150880" y="3546000"/>
              <a:ext cx="1080" cy="113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0" name="AutoShape 74"/>
            <p:cNvCxnSpPr/>
            <p:nvPr/>
          </p:nvCxnSpPr>
          <p:spPr>
            <a:xfrm>
              <a:off x="5150880" y="3546000"/>
              <a:ext cx="407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AutoShape 75"/>
            <p:cNvCxnSpPr/>
            <p:nvPr/>
          </p:nvCxnSpPr>
          <p:spPr>
            <a:xfrm>
              <a:off x="6341400" y="4563360"/>
              <a:ext cx="1440" cy="183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2" name="AutoShape 76"/>
            <p:cNvCxnSpPr>
              <a:endCxn id="261" idx="6"/>
            </p:cNvCxnSpPr>
            <p:nvPr/>
          </p:nvCxnSpPr>
          <p:spPr>
            <a:xfrm flipH="1">
              <a:off x="4793760" y="6393960"/>
              <a:ext cx="1547640" cy="1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Rectangle 77"/>
            <p:cNvSpPr/>
            <p:nvPr/>
          </p:nvSpPr>
          <p:spPr>
            <a:xfrm>
              <a:off x="1573200" y="5428440"/>
              <a:ext cx="41796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8"/>
            <p:cNvSpPr/>
            <p:nvPr/>
          </p:nvSpPr>
          <p:spPr>
            <a:xfrm>
              <a:off x="3721320" y="5076000"/>
              <a:ext cx="417960" cy="20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79"/>
            <p:cNvSpPr/>
            <p:nvPr/>
          </p:nvSpPr>
          <p:spPr>
            <a:xfrm>
              <a:off x="5835960" y="4613040"/>
              <a:ext cx="417960" cy="23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80"/>
            <p:cNvSpPr/>
            <p:nvPr/>
          </p:nvSpPr>
          <p:spPr>
            <a:xfrm>
              <a:off x="2646000" y="5159160"/>
              <a:ext cx="387000" cy="21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1"/>
            <p:cNvSpPr/>
            <p:nvPr/>
          </p:nvSpPr>
          <p:spPr>
            <a:xfrm>
              <a:off x="4806000" y="4730400"/>
              <a:ext cx="387000" cy="21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82"/>
            <p:cNvSpPr/>
            <p:nvPr/>
          </p:nvSpPr>
          <p:spPr>
            <a:xfrm>
              <a:off x="6764760" y="4354200"/>
              <a:ext cx="387000" cy="20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MY" sz="1000" spc="-1" strike="noStrike">
                  <a:solidFill>
                    <a:srgbClr val="000000"/>
                  </a:solidFill>
                  <a:latin typeface="Calibri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AutoShape 83"/>
            <p:cNvCxnSpPr/>
            <p:nvPr/>
          </p:nvCxnSpPr>
          <p:spPr>
            <a:xfrm>
              <a:off x="6912720" y="4219560"/>
              <a:ext cx="30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0" name="AutoShape 84"/>
            <p:cNvCxnSpPr/>
            <p:nvPr/>
          </p:nvCxnSpPr>
          <p:spPr>
            <a:xfrm>
              <a:off x="7221600" y="4219920"/>
              <a:ext cx="1080" cy="121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81" name="TextBox 81"/>
          <p:cNvSpPr/>
          <p:nvPr/>
        </p:nvSpPr>
        <p:spPr>
          <a:xfrm>
            <a:off x="360360" y="26208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gorithm  for Management  of Cancer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3E61-D7B0-43CE-8ECD-BB4200323498}" type="slidenum">
              <a:rPr b="0" lang="en-MY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52"/>
          <p:cNvCxnSpPr/>
          <p:nvPr/>
        </p:nvCxnSpPr>
        <p:spPr>
          <a:xfrm flipH="1">
            <a:off x="2050200" y="5430600"/>
            <a:ext cx="2520" cy="95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AutoShape 59"/>
          <p:cNvCxnSpPr/>
          <p:nvPr/>
        </p:nvCxnSpPr>
        <p:spPr>
          <a:xfrm flipH="1">
            <a:off x="4642560" y="3141360"/>
            <a:ext cx="2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AutoShape 69"/>
          <p:cNvCxnSpPr/>
          <p:nvPr/>
        </p:nvCxnSpPr>
        <p:spPr>
          <a:xfrm>
            <a:off x="4791240" y="4652640"/>
            <a:ext cx="357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" name="AutoShape 74"/>
          <p:cNvCxnSpPr/>
          <p:nvPr/>
        </p:nvCxnSpPr>
        <p:spPr>
          <a:xfrm>
            <a:off x="2050920" y="6381720"/>
            <a:ext cx="144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ummary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8360" y="133992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ose analgesia based on WHO analgesic ladder according to severity of p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s of opioid therapy is titration against analgesic response &amp; side effect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morphine using oral IR preparation with 5 mg 4-hourly &amp; PR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frail elderly, start with 2 – 3 mg 4-hourly &amp; PR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F9F-4DCD-45C7-A797-5DFA2B44CED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ummary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breakthrough pain. always prescribe PRN morphine at 1/6-1/12 of the total 24 hours do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N morphine can be given every 1 hour if necessa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just 4-hourly dose based on total 24 hours requirem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 to SR morphine once requirement stable for maintenance of analges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A460-C7EC-4D45-97F3-56059FC25E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harmacological Treat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1341360"/>
            <a:ext cx="8496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1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treatment of cancer pain both in clinical &amp;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me settings should be based on the WH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algesic Ladder.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(Grade 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1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13C8-D5EC-43DA-A5FB-A052B0D570E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93680" y="263700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14E3-B22D-4CA1-9694-420E36D84D43}" type="slidenum">
              <a:rPr b="0" lang="en-MY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O Analgesic Ladder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8800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8E67-4F71-41C2-89F6-342BD046735F}" type="slidenum">
              <a:rPr b="0" lang="en-MY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362720" cy="5175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381240" y="6361560"/>
            <a:ext cx="838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dapted from WHO. Cancer pain relief (2nd Ed) with a guide to opioid availability. Geneva: WHO; 199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50920" y="159984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R of 17 studies on the effectiveness of the WHO analgesic ladder over a period of 20 years after its introduction, successful analgesia ranged from 45 to 100%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, level II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HO analgesic ladder is applicable for long-term  pain control in both clinical &amp; home settings.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, level II-1; 3-4, level II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68360" y="5931000"/>
            <a:ext cx="828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zevedo São Leão Ferreira K et al., Support Care Cancer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rcadante S. Cancer,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ech DF et al., Pain,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ntafridda V et al., Cancer, 19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468360" y="0"/>
            <a:ext cx="82296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O Analgesic Ladder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EA68-5B19-4042-A1BA-E1468ADF0B0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The regimen of analgesia is based on severity  of pain starting with simple analgesics for mild pain, &amp; progressing to opioid analgesics for moderate &amp; severe 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Pain scores of 1 – 4 correlate with mild pain,      5 - 6 moderate &amp; 7 - 10 severe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</a:rPr>
              <a:t>1 - 2, level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O Analgesic Ladder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3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7200" y="6237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Serlin RC et al., Pain,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Li KK et al., J Palliat Med, 2007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1BC2-CCE4-42D0-81EF-031CAF24DB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476360" y="1484280"/>
            <a:ext cx="60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Step 1 Analges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Non-Opioid Analges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609A-90E2-4872-97E2-C5DADAE3EA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tep 1 Analgesics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cetam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SA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X-2 inhib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D309-F951-4209-876F-88A9333231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6:44:01Z</dcterms:created>
  <dc:creator>User</dc:creator>
  <dc:description/>
  <dc:language>en-US</dc:language>
  <cp:lastModifiedBy>Dr.Amin</cp:lastModifiedBy>
  <dcterms:modified xsi:type="dcterms:W3CDTF">2011-06-08T02:24:40Z</dcterms:modified>
  <cp:revision>235</cp:revision>
  <dc:subject/>
  <dc:title>An Evidence Based and Practical Approach to the Management of Cancer Pain in Malaysia</dc:title>
</cp:coreProperties>
</file>