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FD90-6D93-4EB1-B62C-AC59B4B6F47F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ust understand the effectiveness of opioids lies in the balance between analgesia and side eff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Single fraction radiotherapy was found to be as effective as multiple fraction radiotherapy in controlling cancer p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There are limited numbers of well-designed clinical trials addressing interventional techniques in cancer pain manag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8195-B4BD-4A96-B1D5-9B276A1A4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437-6A8F-4770-A358-C003B9CB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DF0-3B5A-4874-8DCE-D53EB8CA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259-274A-4F0A-A70C-C6789087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27C-D80C-4602-95F1-34BC22A9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E3BB-0B32-486F-96A5-FD8E216E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2EA5-F393-4BFE-8D92-82DC7752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7ECC-150B-45D3-B8A0-9DD948C1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0175-5059-4E00-8069-154AEE49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8E8E-5C5E-4BC5-B52D-58EE26C7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4E49-566B-4453-AABA-2A955DB1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2A19-CF41-40B9-B527-E58C2FD7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932-F80D-4CE1-872F-6FD5A4E3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EB4C-E2D0-40CE-99F0-298C12F4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17DC-230F-494A-AB9A-651C39A5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F550-893B-4A4F-BCF1-65A9439D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D934-3DB1-4DBD-B677-7CFFFA7A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0A04-F14C-4A9E-8759-F06B25D7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19E-E5B0-4C3C-B972-7BCB62E2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1A5-103C-45D1-8460-DECB3C36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72C-1611-4580-BC38-BE817338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151-43AA-4076-B415-DD4E48DF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BE7-6027-424A-AA76-2CF028AD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7C1C-94A2-43DD-A370-25000665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24DD-A9DF-4551-8D11-7C4B073D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4EF7-78A8-4DA4-9D50-AE68AF653C83}" type="datetime">
              <a:rPr b="0" lang="en-MY" sz="1200" spc="-1" strike="noStrike">
                <a:solidFill>
                  <a:srgbClr val="000000"/>
                </a:solidFill>
                <a:latin typeface="Garamond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E4D4-6E66-4B88-9120-F95B8DEA9C7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802C-593B-4396-A6FB-53D1F0711892}" type="datetime">
              <a:rPr b="0" lang="en-MY" sz="1200" spc="-1" strike="noStrike">
                <a:solidFill>
                  <a:srgbClr val="000000"/>
                </a:solidFill>
                <a:latin typeface="Garamond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1593-17A6-4308-B71B-F7357CF077F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7280" y="620280"/>
            <a:ext cx="4645080" cy="334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33"/>
                </a:solidFill>
                <a:latin typeface="Garamond"/>
              </a:rPr>
              <a:t>PHARMACOLOGICAL TREATMENT OF CANCER PAIN 2 – MANAGING SIDE EFFECTS &amp; OTHER TREATMENT MODALITIES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250920" y="250920"/>
            <a:ext cx="4105080" cy="6300720"/>
          </a:xfrm>
          <a:prstGeom prst="rect">
            <a:avLst/>
          </a:prstGeom>
          <a:ln w="0">
            <a:noFill/>
          </a:ln>
        </p:spPr>
      </p:pic>
      <p:sp>
        <p:nvSpPr>
          <p:cNvPr id="95" name="Title 1"/>
          <p:cNvSpPr/>
          <p:nvPr/>
        </p:nvSpPr>
        <p:spPr>
          <a:xfrm>
            <a:off x="4716360" y="4292640"/>
            <a:ext cx="395928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Clinical Practice Guide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Management of Cancer Pain  Development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B49D-A211-44E5-B25D-13FC8040766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spiratory Depres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r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 if opioid therapy is titrated against genuine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 is a natural antagonist to respiratory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ation often occurs before significant respiratory depression – sedation better clinical monito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 – 2, level II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468360" y="623736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Vila H Jr. et al ., Anesth Analg, 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Macintyre P et al., ANZCA &amp; FPM: Melbourne;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A1F6-7FE5-4266-BF21-1C12F146FA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91280" cy="439272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69BD-9565-4BB2-B13D-D26AA92813F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6633"/>
                </a:solidFill>
                <a:latin typeface="Garamond"/>
              </a:rPr>
              <a:t>Naloxone for Respiratory Depression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1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41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</a:rPr>
              <a:t>Used only if life threatening overdose occ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600" spc="-1" strike="noStrike">
                <a:solidFill>
                  <a:srgbClr val="000000"/>
                </a:solidFill>
                <a:latin typeface="Arial"/>
              </a:rPr>
              <a:t>NOT USED </a:t>
            </a:r>
            <a:r>
              <a:rPr b="0" lang="en-MY" sz="2600" spc="-1" strike="noStrike">
                <a:solidFill>
                  <a:srgbClr val="000000"/>
                </a:solidFill>
                <a:latin typeface="Arial"/>
              </a:rPr>
              <a:t>for treating drowsiness or delirium associated with opioids which is not life threate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</a:rPr>
              <a:t>IV route is preferable but SC or IM can also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</a:rPr>
              <a:t>Onset of action: 1 - 2 minutes via IV &amp; 2 - 5 minutes via S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</a:rPr>
              <a:t>Half-life: about one h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461B-7DBE-40A3-8F03-23EFC14C1D7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964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Respiratory rate &gt;8/minute &amp; arousable – “Wait &amp; See” after withholding opio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Respiratory rate &lt;8/minute &amp; comatose or cyanosed – treat with nalox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Dilute 400 mcg (1 ampoule) in 10 ml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Administer small boluses of 0.5 ml (20 mcg) every 2 minutes until RR is satis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Titrate dose against respiratory rate &amp; NOT conscious level as this may result in return of severe pain or physical withdraw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May need further boluses after 1 hour &amp; sometimes infusion in cases where overdose is associated with long-acting opioids (SR tablets, transdermal fentanyl or methad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6633"/>
                </a:solidFill>
                <a:latin typeface="Garamond"/>
              </a:rPr>
              <a:t>Naloxone for Respiratory Depression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2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A5A4-0E13-4CFC-91F9-B304B547CD5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1692360" y="1700280"/>
            <a:ext cx="525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Opioid Switching &amp; Conver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1F3D-BB1A-4785-9D37-B424202CAA8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611280" y="1515960"/>
            <a:ext cx="80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“</a:t>
            </a: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I cannot take the morphine because it mak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me too sleepy &amp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I am vomiting all the time &amp; the pain is just as bad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2E33-6505-4F1F-B8DE-636FD775DF7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oid switching refers to changing one opioid with another in order to improve the balance between the analgesic therapy &amp; its side effe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2268360" y="4724280"/>
            <a:ext cx="432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3851280" y="4724280"/>
            <a:ext cx="1224000" cy="122400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403280" y="4005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Impact"/>
              </a:rPr>
              <a:t>ANALGE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076720" y="371628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Kristen ITC"/>
              </a:rPr>
              <a:t>SID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025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pioid Switching &amp; Conversion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1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02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pioid Switching &amp; Conversion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2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4920" y="1413000"/>
            <a:ext cx="8280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ioid switching should be considered when side effects limit further dose escalation of a particular opioid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Grade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rsion from one opioid to another or between different routes of administration should be guided by equianalgesic conversion tables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Grade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dermal fentanyl should only be considered for use when opioid requirements are stable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Grade 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755A-8AFB-4C07-8985-8CECBCF8F637}" type="slidenum">
              <a:rPr b="0" lang="en-MY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cations for Opioid Swi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Inadequate pain relief despite appropriate dose titration of the initial opi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Intolerable side effects (sedation, nausea, vomiting &amp; constip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Renal impai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Practical considerations (patient preference, inability to swallow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pioid Switching &amp; Conversion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3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F3FA-4F7E-4222-A081-56B39B3B6C6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196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no universally accepted guidelines for equianalgesic conversion &amp; although conversion tables are available, they must be used with ca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quent reassessment is necessary whenever opioid switching is performed in order to avoid overdosing or underdos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mon practice is to reduce the initial converted dose by 25% to 50% due to incomplete cross-tolerance.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, level I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pioid Switching &amp; Conversion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468360" y="623736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haheen PE et. al., J Pain Symptom Manage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3A2F-16C5-48FE-AF97-244024884C6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Learning Objectiv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now the common side effects of opioid analgesics &amp; th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the concept of opioid switching &amp; equianalgesic convers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now about opioids NOT recommended for cancer pain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now about adjuvant analgesics &amp; some other techniques of cancer pain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to transdermal fentanyl, there is a lag time between application of the patch &amp; onset of analgesia due to the pharmacokinetics of the transdermal preparation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; 2, level II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ermal fentanyl should only be used when opioid requirements are stable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- 4, level I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pioid Switching &amp; Conversion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468360" y="5931000"/>
            <a:ext cx="828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IGN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ol of pain in adults with cancer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ercadante S et al., Eur J Pain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anks GW et al., Br J Cancer, 200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onner B et al., Pain, 19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1782-158B-4CE0-87B6-776B5900CD0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928800" y="917640"/>
          <a:ext cx="7572240" cy="4699080"/>
        </p:xfrm>
        <a:graphic>
          <a:graphicData uri="http://schemas.openxmlformats.org/drawingml/2006/table">
            <a:tbl>
              <a:tblPr/>
              <a:tblGrid>
                <a:gridCol w="1720800"/>
                <a:gridCol w="1014480"/>
                <a:gridCol w="1212840"/>
                <a:gridCol w="1157040"/>
                <a:gridCol w="1192320"/>
                <a:gridCol w="1274760"/>
              </a:tblGrid>
              <a:tr h="102852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i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/d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l morphine mg/d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morphine mg/d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xycodone mg/d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ntanyl TD mcg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Oral codeine mg/d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0d9"/>
                    </a:solidFill>
                  </a:tcPr>
                </a:tc>
              </a:tr>
              <a:tr h="7459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Oral morphine mg/d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0d9"/>
                    </a:solidFill>
                  </a:tcPr>
                </a:tc>
              </a:tr>
              <a:tr h="7462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C morphine mg/d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0d9"/>
                    </a:solidFill>
                  </a:tcPr>
                </a:tc>
              </a:tr>
              <a:tr h="7462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Oxycodone mg/d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0d9"/>
                    </a:solidFill>
                  </a:tcPr>
                </a:tc>
              </a:tr>
              <a:tr h="6858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Fentanyl TD mcg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3"/>
          <p:cNvSpPr/>
          <p:nvPr/>
        </p:nvSpPr>
        <p:spPr>
          <a:xfrm>
            <a:off x="3500280" y="5732640"/>
            <a:ext cx="1071720" cy="380880"/>
          </a:xfrm>
          <a:prstGeom prst="rect">
            <a:avLst/>
          </a:prstGeom>
          <a:solidFill>
            <a:srgbClr val="ccc0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16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428840" y="5732640"/>
            <a:ext cx="1214280" cy="3808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16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7"/>
          <p:cNvSpPr/>
          <p:nvPr/>
        </p:nvSpPr>
        <p:spPr>
          <a:xfrm>
            <a:off x="900000" y="907920"/>
            <a:ext cx="172728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1116000" y="16509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1763640" y="9810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0944-5656-4782-871D-56C5E7804B79}" type="slidenum">
              <a:rPr b="0" lang="en-MY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900000" y="32400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able 3. Suggested dose conversion ratio in the direction speci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1476360" y="1812960"/>
            <a:ext cx="604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Opioid Analgesics Requiring Special Atten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A708-5969-4FDD-A77A-4C26FE34486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pioid Analgesics NOT RECOMMENDED in Cancer Pa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Arial"/>
              </a:rPr>
              <a:t>Pethidine &amp; nalbuphine should be avoided in chronic cancer pain management. </a:t>
            </a:r>
            <a:r>
              <a:rPr b="1" lang="en-MY" sz="3000" spc="-1" strike="noStrike">
                <a:solidFill>
                  <a:srgbClr val="000000"/>
                </a:solidFill>
                <a:latin typeface="Arial"/>
              </a:rPr>
              <a:t>(Grade 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5D3D-3810-4A8A-81EF-415CF9F61CA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ethidine</a:t>
            </a:r>
            <a:r>
              <a:rPr b="1" lang="en-US" sz="4200" spc="-1" strike="noStrike" baseline="30000">
                <a:solidFill>
                  <a:srgbClr val="006633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Norpethidine, the active metabolite of pethidine, may accumulate &amp; cause convulsions in patients with long-term use or in high d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The risk is higher in the elderly &amp; patients with renal impair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It is also believed that long-term pethidine usage may have a higher risk of addiction as it is associated with higher incidence of eupho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72A0-FAE3-4595-89C8-8D9831840DA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468360" y="621828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 Hanks G et al., Opioid Analgesic Therapy In: Oxford Textbook of Palliative Medicine 3rd Ed. New York: Oxford University Press;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albuph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268280"/>
            <a:ext cx="8362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Nalbuphine is an opioid agonist-antagonist which should not be used in patients with cancer pain who are already receiving a pure opioid agonist such as morphine, oxycodone or fentanyl as this may reverse the analgesia &amp; may even precipitate a withdrawal react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</a:rPr>
              <a:t>1, level III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E764-B8FC-4B2B-8019-774F65DD91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468360" y="6237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 Levy MH.  N Engl J Med, 19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thado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268280"/>
            <a:ext cx="8362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Metha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</a:rPr>
              <a:t>only occasionally used as an alternative opioid in specialist palliative care settings as its use is more complicated compared to other opioids because of unpredictable plasma half life, analgesic potency &amp; duration of action.</a:t>
            </a:r>
            <a:r>
              <a:rPr b="0" lang="en-MY" sz="2600" spc="-1" strike="noStrike" baseline="30000">
                <a:solidFill>
                  <a:srgbClr val="000000"/>
                </a:solidFill>
                <a:latin typeface="Arial"/>
              </a:rPr>
              <a:t>1, level III; 2, level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both opioid agonist &amp; NMDA receptor antagonist proper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CE9E-7FDB-486E-9817-001AAC9456C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468360" y="623736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Hanks GW et.al., Br J Cancer,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icholson AB, Cochrane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1476360" y="2060640"/>
            <a:ext cx="60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Other Treatments for Cancer P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4151-3F8D-4E56-8AE0-DCD75C0DD19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Use of Adjuvant Analges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Arial"/>
              </a:rPr>
              <a:t>Adjuvant analgesics:</a:t>
            </a:r>
            <a:r>
              <a:rPr b="0" lang="en-SG" sz="2600" spc="-1" strike="noStrike" baseline="30000">
                <a:solidFill>
                  <a:srgbClr val="000000"/>
                </a:solidFill>
                <a:latin typeface="Arial"/>
              </a:rPr>
              <a:t>1, level I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200" spc="-1" strike="noStrike">
                <a:solidFill>
                  <a:srgbClr val="000000"/>
                </a:solidFill>
                <a:latin typeface="Arial"/>
              </a:rPr>
              <a:t>Drugs that have primary indications other than pain but have analgesic properties in some painful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Arial"/>
              </a:rPr>
              <a:t>May be used alone or in combination with other analgesics including strong opio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Arial"/>
              </a:rPr>
              <a:t>Majority of the trials are conducted for chronic non-cancer p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539640" y="6237360"/>
            <a:ext cx="8280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SG" sz="1400" spc="-1" strike="noStrike">
                <a:solidFill>
                  <a:srgbClr val="000000"/>
                </a:solidFill>
                <a:latin typeface="Arial"/>
              </a:rPr>
              <a:t>Lussier D et al.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xford textbook of palliative medicine,</a:t>
            </a:r>
            <a:r>
              <a:rPr b="0" lang="en-SG" sz="1400" spc="-1" strike="noStrike">
                <a:solidFill>
                  <a:srgbClr val="000000"/>
                </a:solidFill>
                <a:latin typeface="Arial"/>
              </a:rPr>
              <a:t>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djuvant Analgesics –</a:t>
            </a:r>
            <a:br>
              <a:rPr sz="4200"/>
            </a:b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commend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8360" y="1736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Arial"/>
              </a:rPr>
              <a:t>Neuropathic cancer pain may be treated with antidepressants and/or anticonvulsants, and the dose should be titrated according to the clinical response and side effects. </a:t>
            </a:r>
            <a:r>
              <a:rPr b="1" lang="en-SG" sz="2600" spc="-1" strike="noStrike">
                <a:solidFill>
                  <a:srgbClr val="000000"/>
                </a:solidFill>
                <a:latin typeface="Arial"/>
              </a:rPr>
              <a:t>(Grade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Arial"/>
              </a:rPr>
              <a:t>Corticosteroids may be useful in symptom control in patients with advanced cancer. </a:t>
            </a:r>
            <a:r>
              <a:rPr b="1" lang="en-SG" sz="2600" spc="-1" strike="noStrike">
                <a:solidFill>
                  <a:srgbClr val="000000"/>
                </a:solidFill>
                <a:latin typeface="Arial"/>
              </a:rPr>
              <a:t>(Grade 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sphosphonates may be considered where analgesics and/or radiotherapy are inadequate for the management of painful bone metastases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Grade 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FDCD-2D9D-4959-9B04-6777F54403DE}" type="slidenum">
              <a:rPr b="0" lang="en-MY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2627280" y="1916280"/>
            <a:ext cx="428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b812f"/>
                </a:solidFill>
                <a:latin typeface="Garamond"/>
              </a:rPr>
              <a:t>Opioid Side Effects &amp; Manag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0106-AFAD-481B-8F0D-0B76ABA06E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3"/>
          <p:cNvSpPr/>
          <p:nvPr/>
        </p:nvSpPr>
        <p:spPr>
          <a:xfrm>
            <a:off x="611280" y="2349360"/>
            <a:ext cx="81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Radiotherap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000" spc="-1" strike="noStrike">
                <a:solidFill>
                  <a:srgbClr val="006633"/>
                </a:solidFill>
                <a:latin typeface="Garamond"/>
              </a:rPr>
              <a:t>Radiotherapy -</a:t>
            </a:r>
            <a:br>
              <a:rPr sz="4000"/>
            </a:br>
            <a:r>
              <a:rPr b="1" lang="en-SG" sz="4000" spc="-1" strike="noStrike">
                <a:solidFill>
                  <a:srgbClr val="006633"/>
                </a:solidFill>
                <a:latin typeface="Garamond"/>
              </a:rPr>
              <a:t>Recommend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200" spc="-1" strike="noStrike">
                <a:solidFill>
                  <a:srgbClr val="000000"/>
                </a:solidFill>
                <a:latin typeface="Arial"/>
              </a:rPr>
              <a:t>Radiotherapy is effective &amp; safe, &amp; patients with pain from metastatic bone disease should be referred early to an oncologist. </a:t>
            </a:r>
            <a:r>
              <a:rPr b="1" lang="en-SG" sz="2200" spc="-1" strike="noStrike">
                <a:solidFill>
                  <a:srgbClr val="000000"/>
                </a:solidFill>
                <a:latin typeface="Arial"/>
              </a:rPr>
              <a:t>(Grade 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200" spc="-1" strike="noStrike">
                <a:solidFill>
                  <a:srgbClr val="000000"/>
                </a:solidFill>
                <a:latin typeface="Arial"/>
              </a:rPr>
              <a:t>Single fraction radiotherapy is the preferred schedule for uncomplicated painful bone metastases. </a:t>
            </a:r>
            <a:r>
              <a:rPr b="1" lang="en-SG" sz="2200" spc="-1" strike="noStrike">
                <a:solidFill>
                  <a:srgbClr val="000000"/>
                </a:solidFill>
                <a:latin typeface="Arial"/>
              </a:rPr>
              <a:t>(Grade 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200" spc="-1" strike="noStrike">
                <a:solidFill>
                  <a:srgbClr val="000000"/>
                </a:solidFill>
                <a:latin typeface="Arial"/>
              </a:rPr>
              <a:t>Hemibody irradiation should be considered for patients with widespread bony metastatic disease for rapid pain relief. </a:t>
            </a:r>
            <a:r>
              <a:rPr b="1" lang="en-SG" sz="2200" spc="-1" strike="noStrike">
                <a:solidFill>
                  <a:srgbClr val="000000"/>
                </a:solidFill>
                <a:latin typeface="Arial"/>
              </a:rPr>
              <a:t>(Grade 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200" spc="-1" strike="noStrike">
                <a:solidFill>
                  <a:srgbClr val="000000"/>
                </a:solidFill>
                <a:latin typeface="Arial"/>
              </a:rPr>
              <a:t>Palliative radiotherapy is effective &amp; patients with non-bony pain related to advanced malignancy should be referred to an oncologist early for consideration of radiotherapy. </a:t>
            </a:r>
            <a:r>
              <a:rPr b="1" lang="en-SG" sz="2200" spc="-1" strike="noStrike">
                <a:solidFill>
                  <a:srgbClr val="000000"/>
                </a:solidFill>
                <a:latin typeface="Arial"/>
              </a:rPr>
              <a:t>(Grade 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DEFD-B083-4D4F-8F34-8B923281968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3"/>
          <p:cNvSpPr/>
          <p:nvPr/>
        </p:nvSpPr>
        <p:spPr>
          <a:xfrm>
            <a:off x="755640" y="2492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Interventional Techniqu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3800" spc="-1" strike="noStrike">
                <a:solidFill>
                  <a:srgbClr val="006633"/>
                </a:solidFill>
                <a:latin typeface="Garamond"/>
              </a:rPr>
              <a:t>Interventional Techniqu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346040"/>
            <a:ext cx="8424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Arial"/>
              </a:rPr>
              <a:t>Neurolytic sympathetic plexus blo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</a:rPr>
              <a:t>Coeliac plexus block for pancreatic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</a:rPr>
              <a:t>Superior hypogastric plexus block for pelvic visceral cancer pain &amp; pancreatic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</a:rPr>
              <a:t>Ganglion impar block for perineal cancer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Arial"/>
              </a:rPr>
              <a:t>Intrathecal neurolytic saddl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Arial"/>
              </a:rPr>
              <a:t>Neuraxial opioid therapy (epidural &amp; intrathecal opioids)  ± local anaesthetics for difficult or diffuse pain in advanced can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Arial"/>
              </a:rPr>
              <a:t>Vertebroplasty for pain from vertebral seco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DACD-3587-4731-BFD5-EB223D9AC9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755640" y="162864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Psychological, Physical &amp; Complementary Therap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commend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ychological interventions, including psycho-education, are useful &amp; should be considered in patients with cancer pain &amp; psychological distress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Grade 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sical &amp; complementary treatment can be used as an adjunctive therapy for patients with cancer pain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Grade 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F9CC-1BB5-48E1-8AA5-83DFFDE641D9}" type="slidenum">
              <a:rPr b="0" lang="ms-MY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ients should always have laxatives if taking regular opioid therap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iratory depression is uncomm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oid pethidine &amp; nalbuphine in management of cancer pai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juvant analgesics are useful in neuropathic p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ummary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1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3E04-EC9B-4C00-A227-C3DCF7AC25C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otherapy can reduce pain in bony &amp;  non-bony cancer-related pai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ventional techniques may be used for difficult pain where expertise is avail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ychological, physical &amp; complementary are useful adjuncts to pharmacological therap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ummary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2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1066680" y="2637000"/>
            <a:ext cx="6934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67E1-2C9F-4089-803C-5E4291EFC9D6}" type="slidenum">
              <a:rPr b="0" lang="en-MY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pioid Side Effects &amp; Manage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8392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Arial"/>
              </a:rPr>
              <a:t>Opioid-induced side effects should be anticipated &amp; treated adequately to ensure continuous effective opioid therapy. </a:t>
            </a:r>
            <a:r>
              <a:rPr b="1" lang="en-MY" sz="3000" spc="-1" strike="noStrike">
                <a:solidFill>
                  <a:srgbClr val="000000"/>
                </a:solidFill>
                <a:latin typeface="Arial"/>
              </a:rPr>
              <a:t>(Grade 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Arial"/>
              </a:rPr>
              <a:t>Patients on regular opioid therapy should receive concurrent prophylaxis for constipation using combination of stimulants &amp; softening laxatives. </a:t>
            </a:r>
            <a:r>
              <a:rPr b="1" lang="en-MY" sz="3000" spc="-1" strike="noStrike">
                <a:solidFill>
                  <a:srgbClr val="000000"/>
                </a:solidFill>
                <a:latin typeface="Arial"/>
              </a:rPr>
              <a:t>(Grade 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6DD1-AE3A-46FE-B424-7D5F9F115A1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mmon Side Effects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1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stipation</a:t>
            </a:r>
            <a:r>
              <a:rPr b="0" lang="en-MY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</a:rPr>
              <a:t>Commonest side effect, laxatives must be prescribed for all patients on regular opio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ombination of stimulant + softe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ntanyl least constipating of all opio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5FFE-E0C4-4302-B10F-804A81407FB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mmon Side Effects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2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usea &amp; Vom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s in 15 - 30% of patients initiating opioid thera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lerance develops 5 - 10 days after star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metoclopramide, haloperidol or prochlorperaz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306A-0EA4-48B9-95AA-B59BD878999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mmon Side Effects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3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ly occurs upon initiation of opio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se with concomitant dementia, encephalopathy &amp; sedative dru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lerance develops after 5 - 10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ssurance &amp; education when star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longed sedation may require opioid ro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B2AF-317B-4848-94DE-6244697CC7F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mmon Side Effects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4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fusion &amp; Deli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s occasionally &amp; often trans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olves after several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persistent, rule out other ca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 low dose haloperid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5E62-A359-44DA-A97D-4208AF1C0C3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mmon Side Effects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5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uritus &amp; Myoclo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uritus occasionally occurs due to histamine release &amp; is easily managed with anti-histam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yoclonus may be a sign of opioid toxicity – reduce dose, switch opioid or use clonazep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29C3-E1E0-40B8-802E-0E47B29D66E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6:44:01Z</dcterms:created>
  <dc:creator>User</dc:creator>
  <dc:description/>
  <dc:language>en-US</dc:language>
  <cp:lastModifiedBy>Dr.Amin</cp:lastModifiedBy>
  <dcterms:modified xsi:type="dcterms:W3CDTF">2011-06-08T02:25:12Z</dcterms:modified>
  <cp:revision>242</cp:revision>
  <dc:subject/>
  <dc:title>An Evidence Based and Practical Approach to the Management of Cancer Pain in Malaysia</dc:title>
</cp:coreProperties>
</file>