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C5E1-3469-41B4-B4FA-679298193DCE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ing patients of the diagn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elping with treatment decision mak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viding psychological support &amp; treating intercurrent illn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cognise &amp; manage complications of cancer therapies which includes providing appropriate pain manag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utpatient Palliative Care Clinic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vides follow up &amp; continuity of care where home care not avail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eeting palliative nee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voiding unnecessary hospital admiss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mproving symptoms manag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7b9899"/>
                </a:solidFill>
                <a:latin typeface="Calibri"/>
              </a:rPr>
              <a:t>Cancer Pain Clinic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ablishment of cancer pain clinics has shown a reduction of overall pain scor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disciplinary clinic assessment of cancer pain resulted in significant improvement in pa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6B21-99F8-410C-B6B1-B6C7689444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7BC3-331D-4CD9-AE2F-AE47727C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231A-89A8-445A-8027-CAB1B14C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9ED2-FF21-4489-BEAE-029410925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074F-426D-45C2-9C47-44B7E6078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2201-703E-4C72-AC69-3FC7B30F4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8967-A663-4EA0-AC80-13A53800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F1F6-4168-4870-9D78-239AAF5A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49A2-444E-4F25-AB8B-B95E8D18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F085-29C0-454F-8437-63CB613B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8BDB-174E-453C-B456-386A8EB1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A67C-6025-417D-9B64-B23C9846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AD9B-3EC2-4DBB-9206-36C107F0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8298-D4D3-4CFC-A6A5-9D72D059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2720-71D8-43BB-8EA1-76AD3084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3F0E-6A84-41F0-86B0-D6E5A823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DA47-3FBB-43B7-9E6A-8ADB85C6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A40C-3E41-4BDA-8D9D-960997FCA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9AF0-9306-4928-8E2E-C5C9E432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4B65-FFB9-441B-82CB-B083233A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2F41-767E-4DD2-B9F2-8A0946A9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E49D-8976-44DA-8B34-2EBF1644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9CF0-926D-466C-BA9D-2F47891E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7400-464D-44DC-BBBA-8B77E6EC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6585-C9C3-4044-834F-03F7DF3D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7E03-EACE-4DD5-9293-C1AC5670515E}" type="datetime">
              <a:rPr b="0" lang="en-MY" sz="1200" spc="-1" strike="noStrike">
                <a:solidFill>
                  <a:srgbClr val="000000"/>
                </a:solidFill>
                <a:latin typeface="Garamond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13DD-37AE-46EB-A475-1C68E53A7A2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6099-F839-4C44-903F-BC23C4949689}" type="datetime">
              <a:rPr b="0" lang="en-MY" sz="1200" spc="-1" strike="noStrike">
                <a:solidFill>
                  <a:srgbClr val="000000"/>
                </a:solidFill>
                <a:latin typeface="Garamond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DE43-C75A-4029-88CD-37CB234C8A7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42920" y="765000"/>
            <a:ext cx="4249800" cy="31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EDUCATION &amp; FOLLOW UP 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250920" y="250920"/>
            <a:ext cx="4105080" cy="6300720"/>
          </a:xfrm>
          <a:prstGeom prst="rect">
            <a:avLst/>
          </a:prstGeom>
          <a:ln w="0">
            <a:noFill/>
          </a:ln>
        </p:spPr>
      </p:pic>
      <p:sp>
        <p:nvSpPr>
          <p:cNvPr id="95" name="Title 1"/>
          <p:cNvSpPr/>
          <p:nvPr/>
        </p:nvSpPr>
        <p:spPr>
          <a:xfrm>
            <a:off x="4716360" y="4292640"/>
            <a:ext cx="395928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Clinical Practice Guidel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Management of Cancer Pain  Development Gro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1074-486A-4643-8C31-0C8D5DDACF8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Local Stud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1320" y="1527120"/>
            <a:ext cx="850428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 local study, barriers identified among doctors in public hospital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ars of addiction (36.5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piratory depression (53.1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or knowledge on the use of morph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468360" y="621648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 R, Oncology, 200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33"/>
                </a:solidFill>
                <a:latin typeface="Garamond"/>
              </a:rPr>
              <a:t>EDUCATIONAL STRATEGIES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D9A0-ED4D-48FC-9E1B-C6090C856D3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Focus in Educational Strateg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45680" y="1269720"/>
            <a:ext cx="83026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cancer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disease processes &amp; their relation to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&amp; document pain assessment appropr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pai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are of the available analge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el fears regarding opiods analg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help &amp; support (when, where &amp; 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Educational Strategies -</a:t>
            </a:r>
            <a:br>
              <a:rPr sz="4000"/>
            </a:b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Recommenda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8446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althcare providers (HCP) have a duty to implement patient-based education interventions.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(Grade A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CP involved in cancer care should participate in continuing professional development regardless of years in practic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 (Grade 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A9B5-E2A5-4EA8-A850-31D184C32D5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FOLLOW UP</a:t>
            </a: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B1A2-8D02-4391-93B7-0E582D50472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3640" y="277920"/>
            <a:ext cx="878508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Follow Up in Cancer Pain Managemen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me c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mary care clin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alised out patient clinics – palliative care &amp; cancer pain clin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CP &amp; family caregivers  play an essential role in the cancer pain management regardless where the follow up takes pl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Role of Social Workers</a:t>
            </a:r>
            <a:r>
              <a:rPr b="1" lang="en-US" sz="4200" spc="-1" strike="noStrike" baseline="30000">
                <a:solidFill>
                  <a:srgbClr val="006633"/>
                </a:solidFill>
                <a:latin typeface="Garamond"/>
              </a:rPr>
              <a:t>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lp patients develop skills such as problem solv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ter communication &amp; advoc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istance in either home or the ambulatory care set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468360" y="621648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ajchen M et al., Health Soc Work, 19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HOME CAR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7E42-0730-4168-B12D-7B830DFC93F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Home Ca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1320" y="1527120"/>
            <a:ext cx="850428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O guidelines enables patients to receive pain treatment in the comfort of their homes &amp; significantly improves pain intensity when led by physicians skilled in palliative care 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0.05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468360" y="621648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rcadante S, Cancer, 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Challenges During Home Care Follow Up</a:t>
            </a:r>
            <a:r>
              <a:rPr b="1" lang="en-US" sz="4000" spc="-1" strike="noStrike" baseline="30000">
                <a:solidFill>
                  <a:srgbClr val="006633"/>
                </a:solidFill>
                <a:latin typeface="Garamond"/>
              </a:rPr>
              <a:t>1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1320" y="1598400"/>
            <a:ext cx="8504280" cy="42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ing prescribed med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ing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sid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ng with &amp; understanding complex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new unusual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multiple symptoms simultane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468360" y="621648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umacher KL et al. J Pain Symptom Manage,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Learning Objectiv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964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 know &amp; understand barriers / impediments to adequate / effective pain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ptimal strategies to overcome the barri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 know &amp; understand clinical issues / responsibilities in community cancer pain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oles of different agencies (Pain Clinics / Palliative Care Unit / Hospice / Health Clinic / etc.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0D33-E1FC-405B-9526-E98AB7FE3EE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124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Additional Barriers </a:t>
            </a:r>
            <a:br>
              <a:rPr sz="4000"/>
            </a:b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(Home Care Follow Up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1320" y="1742760"/>
            <a:ext cx="8504280" cy="37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egivers at home had significantly higher levels of concern in fatalistic beliefs 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0.008) &amp; addiction 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0.006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, level II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egivers reservations or misinformation regarding pain management  or administration of medicatio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, level II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468360" y="6218280"/>
            <a:ext cx="82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tizia M et al., J Pain Symptom Manage, 200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liver DP et al., J Pain Symptom Manage,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123624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33"/>
                </a:solidFill>
                <a:latin typeface="Garamond"/>
              </a:rPr>
              <a:t>Despite the barriers elucidated,  studies have shown palliative care at home had a positive effect on pain intensity 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006633"/>
                </a:solidFill>
                <a:latin typeface="Garamond"/>
              </a:rPr>
              <a:t>p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&lt;0.0001)</a:t>
            </a:r>
            <a:r>
              <a:rPr b="1" lang="en-US" sz="3200" spc="-1" strike="noStrike" baseline="30000">
                <a:solidFill>
                  <a:srgbClr val="006633"/>
                </a:solidFill>
                <a:latin typeface="Garamond"/>
              </a:rPr>
              <a:t>1, level II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7316-EDE7-4F96-BB77-3F10AB029DD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468360" y="595008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escu L et al., J Pain Symptom Manage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Ambulatory Ca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85480" y="157176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mily physicians’ r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patient palliative care clin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in clin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Pain Management &amp; Palliative Care  Service Provider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9992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in Clin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lliative Care Un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spices/Palliative Care Socie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e 73 – 74 of CPG Mx of Cancer p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    Malaysian Association For the Study of Pain (http://masp.org.m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.   Hospis Malaysia (http://www.hospismalaysia.or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.  Asia Pacific Hospice Palliative Care Network (http://www.aphn.or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20A3-5840-4DA3-BE34-DF24EF6A5F9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Follow Up -</a:t>
            </a:r>
            <a:br>
              <a:rPr sz="4200"/>
            </a:b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Recommend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tient with cancer pain must have regular follow up either at home, primary care clinics or specialised clinics.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Grade 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cer pain can be managed at home using the WHO guidelines &amp; should address concerns of both patients &amp; caregivers.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Grade 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al workers should be engaged to help in providing practical assistance &amp; social support to patients with cancer pain.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Grade 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119D-8F17-4DC7-AA94-DDF19FB9FD9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Summ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201680"/>
            <a:ext cx="82296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care providers  should implement patient-based education interventions in managing patients with cancer pain. They should also continue professional development on the cancer pain managemen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tient with cancer pain must have regular follow up either at home, primary care clinics or specialised clinics. Wherever it is done, management should be based on the WHO guidelines &amp; concerns of both patients &amp; caregivers addres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workers should be engaged to help in providing practical assistance &amp; social support to patients with cancer pa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9567-FD2A-4BB0-B316-EB429D89E9A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THANK YOU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58FA-ED3D-4DE4-BB8D-9D94447C24F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300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BARRIERS TO EFFECTIVE CANCER PAIN MANAGEMENT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Slide Number Placeholder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8CA9-46EC-4D4C-8416-B79105E1F59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155160"/>
            <a:ext cx="853452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Common Barriers to Effective Cancer Pain Management</a:t>
            </a:r>
            <a:r>
              <a:rPr b="1" lang="en-US" sz="4000" spc="-1" strike="noStrike" baseline="30000">
                <a:solidFill>
                  <a:srgbClr val="006633"/>
                </a:solidFill>
                <a:latin typeface="Garamond"/>
              </a:rPr>
              <a:t>1-7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1320" y="1699920"/>
            <a:ext cx="85042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r of addiction to opi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r of drug tol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r of adverse effects from analgesics including respiratory de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alism about possibility of achieving pai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ef that ‘good’ patients do not complain about pa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468360" y="5931000"/>
            <a:ext cx="828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 R, Oncology, 2008 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cobsen R et al., Scand J Caring Sci, 2009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nder JL et al., J Pain Symptom Manage, 2008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Øjsted J et al., Eur J Pain, 2007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i BC et al,, J Pain Palliat Care Pharmacother, 2006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nstein SM at al., South Med J, 2000 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oan PA et al., J Pain Symptom Manage, 19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1320" y="1555560"/>
            <a:ext cx="850428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r of distracting physician from treating 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ef that pain signifies disease prog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r of inj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y in communicating pain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dequate assessment of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knowledge among healthcare professionals on the use of opi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4920" y="155160"/>
            <a:ext cx="853452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Common Barriers to Effective Cancer Pain Management (cont…)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Barriers to Effective Pain Managemen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1320" y="1741320"/>
            <a:ext cx="8504280" cy="43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ce et al. showed: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, level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 intensity was related to patient’s concer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bothering the nurse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.007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olerance &amp; addiction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0.00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r of tolerance had significantly greater effects on pain score compared to fear of addiction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.01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y members &amp; carers were also most concerned with toleranc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.03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468360" y="621648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ice JA et al., J Pain Symptom Manage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aregivers Factors</a:t>
            </a:r>
            <a:r>
              <a:rPr b="1" lang="en-US" sz="4200" spc="-1" strike="noStrike" baseline="30000">
                <a:solidFill>
                  <a:srgbClr val="006633"/>
                </a:solidFill>
                <a:latin typeface="Garamond"/>
              </a:rPr>
              <a:t>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1320" y="1526760"/>
            <a:ext cx="8504280" cy="38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ian caregivers had significantly more concern regarding tolerance &amp; reporting of p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wer education, occupation &amp; employment stat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468360" y="6218280"/>
            <a:ext cx="82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tizia M et al., J Pain Symptom Manage, 200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Healthcare Professionals Factors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-1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1320" y="1526760"/>
            <a:ext cx="85042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izia M et al. found that more than 1/4 hospice HCP had concerns about tolerance, fear of the use of morphine, drug side effects &amp; administration of medications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, level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an et al. highlighted poor knowledge among family physicians on pain assessment, pain relieving factors &amp; eliciting psychosocial background of cancer patients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, level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68360" y="6219720"/>
            <a:ext cx="82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tizia M et al., J Pain Symptom Manage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oan PA et al., J Pain Symptom Manage, 19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Healthcare Professionals Factors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-2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1320" y="1527120"/>
            <a:ext cx="850428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vartzman et al. found that physicians overestimated the pain severity but underestimated its impact on everyday li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, level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2% reporting adequate pai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knowledge &amp; systematic education among the phys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468360" y="621648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vartzman P et al., J Pain Symptom Manage,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16:44:01Z</dcterms:created>
  <dc:creator>User</dc:creator>
  <dc:description/>
  <dc:language>en-US</dc:language>
  <cp:lastModifiedBy>Dr.Amin</cp:lastModifiedBy>
  <dcterms:modified xsi:type="dcterms:W3CDTF">2011-06-08T04:03:49Z</dcterms:modified>
  <cp:revision>175</cp:revision>
  <dc:subject/>
  <dc:title>An Evidence Based and Practical Approach to the Management of Cancer Pain in Malaysia</dc:title>
</cp:coreProperties>
</file>