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C8AF-90BB-49A1-9A44-D5F4FB4FD93C}"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he is addicted as he shows signs of psychological dependence. His main focus was on the pethidine to the point where he did not care about even having chemotherapy. He also became aggressive and aggitated when he was asked to change to morphine. He also did not bother about the fact that pethidine was dangerous. Later on, he required more &amp; more pethidine to satisfy his craving as he most likely had developed tolerance to the euphoric effects.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DFCD-2C18-4E3A-A8D8-26ADEC3A333D}"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is not valid &amp; negligent as creating a person into a pethidine addict does not improve quality of life neither does it improve pain control well as pethidine has a short half-life &amp; is inconvenient to administer.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7FA8-B928-4126-95B3-863E15598FAD}"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participants’ information – the patient really spent the rest of his short life as an addict with very little quality of life &amp; probably in a lot of pain.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4D5B-CB0E-435E-AD31-FF432962E2E3}"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ase of pseudo-addiction which is the situation where the healthcare worker thinks patient is addicted because the patient keeps asking for morphine. However, this is a problem of education of healthcare workers who must understand &amp; recognise pain. In pseudo-addiction the patient is continuously asking for morphine because pain relief is inadequate. If patients are requiring very high doses with poor relief, this may be due to opioid poorly responsive pain i.e. neuropathic pain &amp; should be referred to a pain specialis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BC3C-A0BB-4B71-B4D2-0F7255F4D143}"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1D2D-7758-473D-8040-71427BE5BCAE}"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true case. The morphine was accidentally continued for 5 years until suddenly the oncologist noted it. She is NOT addicted as she shows not signs or behaviour of an ADDICT. Addiction is psychological dependence; however this patient ONLY shows signs of PHYSICAL dependence. All patients who have been on long-term opioids will exhibit physical dependence &amp; withdrawal when stopping opioids suddenly.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35C7-B373-4C2A-8423-D571A8E3787E}"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she is HAPPY to stop morphine &amp; shows no psychological or anti-social behaviour when asked to stop. This is unlike an ADDICT who will make excuses &amp; will not agree to stop.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DEE7-61C8-4BC5-81EF-D8A136081BEF}"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CTION is psychological dependence, hence patients have craving &amp; focus mainly on the drug &amp; exhibit anti-social behaviour in order to obtain their fix. Physical dependence occurs because the body has physiologically adjusted to the effects of the opioids, hence sudden cessation will result in withdrawal. Of course, all addicts will exhibit signs on physical dependence as well. However a person can be merely physically dependant without psychological dependence &amp; is NOT an addic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3133-5A96-433A-8C31-D83644F79C40}"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true cas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7255-80CC-43B9-8E07-B56638E40ADD}"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hidine is not recommended for chronic cancer pain. This has been discussed in Case Discussion 1.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A9F9-4A65-4B19-9881-8BE953718FE4}"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EA793-E054-46E9-AF0E-A2691A571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CC2E-622A-4556-963A-39A4B3DD3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1ADB6-5F22-41E9-9C1E-EA846A892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4104E-A51D-41E2-8E2B-7FCA6FF6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87E57-1A23-4EFA-A582-07A372F84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F56B3-0C25-4656-851D-977814DC7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6424F-BD9F-4F5A-9F4D-679DF3755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5399B-6E90-4F05-8311-B4BA8B342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25A79-345A-429E-9DA9-C2DA09F67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AAD25-BBD8-4650-A2BF-96CBB9C1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A9978-46F0-4954-8098-EE009EE03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6699-3E0B-40D3-9689-13BD95B45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10657-FE01-4363-9B4A-C1C4484E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EEB49-1EBF-4B52-A2E4-81D2B6358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A430B-FD13-43D3-B8EF-4D7C9BC4F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537CF-5CC8-4659-B4EA-85F734F7B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399F2-9D55-4A6A-B219-41A4E19C3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E255-89C6-4F4C-896D-26CA1A8CE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8339-8B5A-44FB-A023-A236B6514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6B475-E9AD-415B-B306-6CA92668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3189-B183-4826-8105-BFD05611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67E6-949F-4CD1-A605-E49E680E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6D48-A00C-4B88-85A4-C57D2643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CA7A-4CE2-443F-AB32-62E0D4E84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CF73-D92F-4D99-A5B2-F48694182BB6}"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4D77-E024-49E0-B38E-BCF6CA4EE41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89B7-3768-4B41-94FE-C54B430C5601}"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6697-37F1-43E1-90A6-AAF8087E14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42920" y="765000"/>
            <a:ext cx="4249800" cy="31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CASE DISCUSSION FOR NURSES &amp; PARAMEDICS –</a:t>
            </a:r>
            <a:br>
              <a:rPr sz="3600"/>
            </a:br>
            <a:r>
              <a:rPr b="1" lang="en-US" sz="3600" spc="-1" strike="noStrike">
                <a:solidFill>
                  <a:srgbClr val="006633"/>
                </a:solidFill>
                <a:latin typeface="Garamond"/>
              </a:rPr>
              <a:t>EDUCATION</a:t>
            </a:r>
            <a:endParaRPr b="0" lang="en-US" sz="3600" spc="-1" strike="noStrike">
              <a:solidFill>
                <a:srgbClr val="006633"/>
              </a:solidFill>
              <a:latin typeface="Garamond"/>
            </a:endParaRPr>
          </a:p>
        </p:txBody>
      </p:sp>
      <p:pic>
        <p:nvPicPr>
          <p:cNvPr id="94" name="Picture 1" descr=""/>
          <p:cNvPicPr/>
          <p:nvPr/>
        </p:nvPicPr>
        <p:blipFill>
          <a:blip r:embed="rId1"/>
          <a:stretch/>
        </p:blipFill>
        <p:spPr>
          <a:xfrm>
            <a:off x="250920" y="250920"/>
            <a:ext cx="4105080" cy="6300720"/>
          </a:xfrm>
          <a:prstGeom prst="rect">
            <a:avLst/>
          </a:prstGeom>
          <a:ln w="0">
            <a:noFill/>
          </a:ln>
        </p:spPr>
      </p:pic>
      <p:sp>
        <p:nvSpPr>
          <p:cNvPr id="95" name="Title 1"/>
          <p:cNvSpPr/>
          <p:nvPr/>
        </p:nvSpPr>
        <p:spPr>
          <a:xfrm>
            <a:off x="4716360" y="4292640"/>
            <a:ext cx="3959280" cy="204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Clinical Practice Guidel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anagement of Cancer Pain  Development Group </a:t>
            </a:r>
            <a:endParaRPr b="0" lang="en-US" sz="2400" spc="-1" strike="noStrike">
              <a:solidFill>
                <a:srgbClr val="000000"/>
              </a:solidFill>
              <a:latin typeface="Arial"/>
            </a:endParaRPr>
          </a:p>
        </p:txBody>
      </p:sp>
      <p:sp>
        <p:nvSpPr>
          <p:cNvPr id="9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21C5-6958-4A9E-A4A5-B3921F87BC6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gress Notes</a:t>
            </a:r>
            <a:endParaRPr b="0" lang="en-US" sz="4200" spc="-1" strike="noStrike">
              <a:solidFill>
                <a:srgbClr val="006633"/>
              </a:solidFill>
              <a:latin typeface="Garamond"/>
            </a:endParaRPr>
          </a:p>
        </p:txBody>
      </p:sp>
      <p:sp>
        <p:nvSpPr>
          <p:cNvPr id="119"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was referred for further palliative chemotherapy.</a:t>
            </a:r>
            <a:endParaRPr b="0" lang="en-US" sz="28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cology team however realised that he was on regular pethidine qid, attempted to stop the pethidine &amp; converted him back to regular morphine. </a:t>
            </a:r>
            <a:endParaRPr b="0" lang="en-US" sz="2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subsequently argued that he could not take morphine because it made him drowsy &amp; insisted that pethidine was the only medication that would relieve his pain. </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1C31-ABDB-431D-BA5C-AAE9AB945A1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gress Notes</a:t>
            </a:r>
            <a:endParaRPr b="0" lang="en-US" sz="4200" spc="-1" strike="noStrike">
              <a:solidFill>
                <a:srgbClr val="006633"/>
              </a:solidFill>
              <a:latin typeface="Garamond"/>
            </a:endParaRPr>
          </a:p>
        </p:txBody>
      </p:sp>
      <p:sp>
        <p:nvSpPr>
          <p:cNvPr id="122" name=""/>
          <p:cNvSpPr txBox="1"/>
          <p:nvPr/>
        </p:nvSpPr>
        <p:spPr>
          <a:xfrm>
            <a:off x="457200" y="14126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explanation was given regarding the use of opioids &amp; dangers of pethidine. However, he became increasingly agitated &amp; insisted to be discharged. </a:t>
            </a:r>
            <a:endParaRPr b="0" lang="en-US" sz="26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sked about his chemotherapy, he said he did not care about it &amp; refused any further advice. </a:t>
            </a:r>
            <a:endParaRPr b="0" lang="en-US" sz="26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was then discharged with a prescription from his regular doctor for “IM pethidine 75 mg PRN“ which he then laminated &amp; brought along with him to ED whenever he needed a shot of pethidine.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5CF3-2E7B-4C26-B733-DEBD187B38E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826920" y="2349360"/>
            <a:ext cx="7705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 </a:t>
            </a:r>
            <a:r>
              <a:rPr b="0" lang="en-US" sz="3600" spc="-1" strike="noStrike">
                <a:solidFill>
                  <a:srgbClr val="000000"/>
                </a:solidFill>
                <a:latin typeface="Arial"/>
              </a:rPr>
              <a:t>Is this patient addicted to pethidine? </a:t>
            </a:r>
            <a:endParaRPr b="0" lang="en-US" sz="3600" spc="-1" strike="noStrike">
              <a:solidFill>
                <a:srgbClr val="000000"/>
              </a:solidFill>
              <a:latin typeface="Arial"/>
            </a:endParaRPr>
          </a:p>
        </p:txBody>
      </p:sp>
      <p:sp>
        <p:nvSpPr>
          <p:cNvPr id="125"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9B59-1461-4B7A-8D3B-1AF551C6E5A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gress Notes</a:t>
            </a:r>
            <a:endParaRPr b="0" lang="en-US" sz="4200" spc="-1" strike="noStrike">
              <a:solidFill>
                <a:srgbClr val="006633"/>
              </a:solidFill>
              <a:latin typeface="Garamond"/>
            </a:endParaRPr>
          </a:p>
        </p:txBody>
      </p:sp>
      <p:sp>
        <p:nvSpPr>
          <p:cNvPr id="12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ncology team discussed the case with his primary doctor about the addiction &amp; the doctor’s reply was: </a:t>
            </a:r>
            <a:endParaRPr b="0" lang="en-US" sz="3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So what if he is addicted, he is terminally ill. Just make him happy.”</a:t>
            </a:r>
            <a:endParaRPr b="0" lang="en-US" sz="3000" spc="-1" strike="noStrike">
              <a:solidFill>
                <a:srgbClr val="000000"/>
              </a:solidFill>
              <a:latin typeface="Arial"/>
            </a:endParaRPr>
          </a:p>
        </p:txBody>
      </p:sp>
      <p:sp>
        <p:nvSpPr>
          <p:cNvPr id="12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0E43-0748-4A76-9CE1-D6CEA5753AE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1763640" y="1436760"/>
            <a:ext cx="54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agree with the doctor’s statement? </a:t>
            </a:r>
            <a:endParaRPr b="0" lang="en-US" sz="3600" spc="-1" strike="noStrike">
              <a:solidFill>
                <a:srgbClr val="000000"/>
              </a:solidFill>
              <a:latin typeface="Arial"/>
            </a:endParaRPr>
          </a:p>
        </p:txBody>
      </p:sp>
      <p:sp>
        <p:nvSpPr>
          <p:cNvPr id="130" name="TextBox 4"/>
          <p:cNvSpPr/>
          <p:nvPr/>
        </p:nvSpPr>
        <p:spPr>
          <a:xfrm>
            <a:off x="1258920" y="3284640"/>
            <a:ext cx="662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think that the pethidine will give Mr. KF quality of life &amp; make him happy? </a:t>
            </a:r>
            <a:endParaRPr b="0" lang="en-US" sz="3600" spc="-1" strike="noStrike">
              <a:solidFill>
                <a:srgbClr val="000000"/>
              </a:solidFill>
              <a:latin typeface="Arial"/>
            </a:endParaRPr>
          </a:p>
        </p:txBody>
      </p:sp>
      <p:sp>
        <p:nvSpPr>
          <p:cNvPr id="1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557A-DFAE-4524-86A2-ACA8A43D9F4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gress Notes</a:t>
            </a:r>
            <a:endParaRPr b="0" lang="en-US" sz="4200" spc="-1" strike="noStrike">
              <a:solidFill>
                <a:srgbClr val="006633"/>
              </a:solidFill>
              <a:latin typeface="Garamond"/>
            </a:endParaRPr>
          </a:p>
        </p:txBody>
      </p:sp>
      <p:sp>
        <p:nvSpPr>
          <p:cNvPr id="133" name=""/>
          <p:cNvSpPr txBox="1"/>
          <p:nvPr/>
        </p:nvSpPr>
        <p:spPr>
          <a:xfrm>
            <a:off x="457200" y="1341000"/>
            <a:ext cx="8229600" cy="463716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KF returned to his home town after refusing all forms of chemotherapy that may have helped to prolong his survival. </a:t>
            </a:r>
            <a:endParaRPr b="0" lang="en-US" sz="28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then spent the rest of his days travelling back &amp; forth from his home to the general hospital 3 - 4 times a day to receive his regular ‘fix’ of pethidine at the emergency department. </a:t>
            </a:r>
            <a:endParaRPr b="0" lang="en-US" sz="28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a young man who was dying spent the rest of his days travelling back &amp; forth from his home to the hospital in a busy town with heavy traffic. </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7392-E032-41BE-8A82-4DCF5DBDB0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3"/>
          <p:cNvSpPr/>
          <p:nvPr/>
        </p:nvSpPr>
        <p:spPr>
          <a:xfrm>
            <a:off x="1619280" y="2205000"/>
            <a:ext cx="61214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3</a:t>
            </a:r>
            <a:endParaRPr b="0" lang="en-US" sz="4200" spc="-1" strike="noStrike">
              <a:solidFill>
                <a:srgbClr val="006633"/>
              </a:solidFill>
              <a:latin typeface="Garamond"/>
            </a:endParaRPr>
          </a:p>
        </p:txBody>
      </p:sp>
      <p:sp>
        <p:nvSpPr>
          <p:cNvPr id="137" name=""/>
          <p:cNvSpPr txBox="1"/>
          <p:nvPr/>
        </p:nvSpPr>
        <p:spPr>
          <a:xfrm>
            <a:off x="457200" y="1412640"/>
            <a:ext cx="8229600" cy="460836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CCK, a 45 y.o. Chinese gentleman with recurrent ca. colon, had severe pelvic pain. </a:t>
            </a:r>
            <a:endParaRPr b="0" lang="en-US" sz="2800" spc="-1" strike="noStrike">
              <a:solidFill>
                <a:srgbClr val="000000"/>
              </a:solidFill>
              <a:latin typeface="Arial"/>
            </a:endParaRPr>
          </a:p>
          <a:p>
            <a:pPr marL="343080" indent="-343080">
              <a:lnSpc>
                <a:spcPct val="90000"/>
              </a:lnSpc>
              <a:spcBef>
                <a:spcPts val="3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had been given high doses of opioids including TD fentanyl 150 mcg/h plus SC morphine infusion of 150 mg over 24 hours &amp; SC morphine 30 mg PRN.</a:t>
            </a:r>
            <a:endParaRPr b="0" lang="en-US" sz="2800" spc="-1" strike="noStrike">
              <a:solidFill>
                <a:srgbClr val="000000"/>
              </a:solidFill>
              <a:latin typeface="Arial"/>
            </a:endParaRPr>
          </a:p>
          <a:p>
            <a:pPr marL="343080" indent="-343080">
              <a:lnSpc>
                <a:spcPct val="90000"/>
              </a:lnSpc>
              <a:spcBef>
                <a:spcPts val="3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days progressed, his disease continued to infiltrate the pelvis &amp; the overlying skin. He was put on PCA IV morphine &amp; took about an additional 150 mg of IV morphine in 24 hours.</a:t>
            </a:r>
            <a:endParaRPr b="0" lang="en-US" sz="28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05D6-4913-4686-BABC-AF7E0857569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3 (cont…)</a:t>
            </a:r>
            <a:endParaRPr b="0" lang="en-US" sz="4200" spc="-1" strike="noStrike">
              <a:solidFill>
                <a:srgbClr val="006633"/>
              </a:solidFill>
              <a:latin typeface="Garamond"/>
            </a:endParaRPr>
          </a:p>
        </p:txBody>
      </p:sp>
      <p:sp>
        <p:nvSpPr>
          <p:cNvPr id="140" name=""/>
          <p:cNvSpPr txBox="1"/>
          <p:nvPr/>
        </p:nvSpPr>
        <p:spPr>
          <a:xfrm>
            <a:off x="457200" y="1483920"/>
            <a:ext cx="8229600" cy="442116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lt some relief with morphine; however the relief did not last long. </a:t>
            </a:r>
            <a:endParaRPr b="0" lang="en-US" sz="28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rted to ask for additional morphine injections of 30 mg. The nurse had given him 2 doses within a period of 4 hours &amp; then he was asking for another dose. </a:t>
            </a:r>
            <a:endParaRPr b="0" lang="en-US" sz="28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refused to give him more &amp; was worried that he was getting addicted. When the doctor came to review Mr. CCK, he was crying in pai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8BCF-05CC-445E-ABAD-A29C4B4E93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19120" y="1412640"/>
            <a:ext cx="8229600" cy="4133880"/>
          </a:xfrm>
          <a:prstGeom prst="rect">
            <a:avLst/>
          </a:prstGeom>
          <a:noFill/>
          <a:ln w="0">
            <a:noFill/>
          </a:ln>
        </p:spPr>
        <p:txBody>
          <a:bodyPr anchor="t">
            <a:normAutofit/>
          </a:bodyPr>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kind of behaviour is this ? </a:t>
            </a:r>
            <a:endParaRPr b="0" lang="en-US" sz="3000" spc="-1" strike="noStrike">
              <a:solidFill>
                <a:srgbClr val="000000"/>
              </a:solidFill>
              <a:latin typeface="Arial"/>
            </a:endParaRPr>
          </a:p>
          <a:p>
            <a:pPr marL="514440" indent="-514440">
              <a:spcBef>
                <a:spcPts val="300"/>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spcBef>
                <a:spcPts val="751"/>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ction </a:t>
            </a:r>
            <a:endParaRPr b="0" lang="en-US" sz="3000" spc="-1" strike="noStrike">
              <a:solidFill>
                <a:srgbClr val="000000"/>
              </a:solidFill>
              <a:latin typeface="Arial"/>
            </a:endParaRPr>
          </a:p>
          <a:p>
            <a:pPr marL="514440" indent="-514440">
              <a:spcBef>
                <a:spcPts val="499"/>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spcBef>
                <a:spcPts val="751"/>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lerance </a:t>
            </a:r>
            <a:endParaRPr b="0" lang="en-US" sz="3000" spc="-1" strike="noStrike">
              <a:solidFill>
                <a:srgbClr val="000000"/>
              </a:solidFill>
              <a:latin typeface="Arial"/>
            </a:endParaRPr>
          </a:p>
          <a:p>
            <a:pPr marL="514440" indent="-514440">
              <a:spcBef>
                <a:spcPts val="499"/>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spcBef>
                <a:spcPts val="751"/>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sical dependence</a:t>
            </a:r>
            <a:endParaRPr b="0" lang="en-US" sz="3000" spc="-1" strike="noStrike">
              <a:solidFill>
                <a:srgbClr val="000000"/>
              </a:solidFill>
              <a:latin typeface="Arial"/>
            </a:endParaRPr>
          </a:p>
          <a:p>
            <a:pPr marL="514440" indent="-514440">
              <a:spcBef>
                <a:spcPts val="499"/>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spcBef>
                <a:spcPts val="751"/>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eudo-addiction </a:t>
            </a:r>
            <a:endParaRPr b="0" lang="en-US" sz="3000" spc="-1" strike="noStrike">
              <a:solidFill>
                <a:srgbClr val="000000"/>
              </a:solidFill>
              <a:latin typeface="Arial"/>
            </a:endParaRPr>
          </a:p>
          <a:p>
            <a:pPr marL="514440" indent="-514440">
              <a:spcBef>
                <a:spcPts val="751"/>
              </a:spcBef>
              <a:buClr>
                <a:srgbClr val="cc9900"/>
              </a:buClr>
              <a:buSzPct val="6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BB7B-0EC0-4BF5-AA7B-3A1D807E01A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7051-3806-465E-B8D4-831BB5E2885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1</a:t>
            </a:r>
            <a:endParaRPr b="0" lang="en-US" sz="4200" spc="-1" strike="noStrike">
              <a:solidFill>
                <a:srgbClr val="006633"/>
              </a:solidFill>
              <a:latin typeface="Garamond"/>
            </a:endParaRPr>
          </a:p>
        </p:txBody>
      </p:sp>
      <p:sp>
        <p:nvSpPr>
          <p:cNvPr id="98" name=""/>
          <p:cNvSpPr txBox="1"/>
          <p:nvPr/>
        </p:nvSpPr>
        <p:spPr>
          <a:xfrm>
            <a:off x="457200" y="1341000"/>
            <a:ext cx="8229600" cy="485316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dam SWH was a 63 y.o. Chinese lady with a history of ca. cervix diagnosed in 2002. She initially presented with bloody vaginal discharge &amp; pelvic pain. </a:t>
            </a:r>
            <a:endParaRPr b="0" lang="en-US" sz="26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e was seen by an oncologist &amp; was given concurrent chemo-radiation to the pelvis. During the treatment, her pelvic pain was severe requiring a dose of SR morphine 30 mg bd to control it. </a:t>
            </a:r>
            <a:endParaRPr b="0" lang="en-US" sz="26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completing radiotherapy, her pain persisted. Hence, she was kept on the dose of oral morphine &amp; continued over the next 5 years while she was followed up in the oncology clinic. </a:t>
            </a:r>
            <a:endParaRPr b="0" lang="en-US" sz="2600" spc="-1" strike="noStrike">
              <a:solidFill>
                <a:srgbClr val="000000"/>
              </a:solidFill>
              <a:latin typeface="Arial"/>
            </a:endParaRPr>
          </a:p>
          <a:p>
            <a:pPr marL="343080" indent="-343080">
              <a:lnSpc>
                <a:spcPct val="80000"/>
              </a:lnSpc>
              <a:spcBef>
                <a:spcPts val="275"/>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4301-0611-4ADF-A289-F59E89B40BA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1 (cont….)</a:t>
            </a:r>
            <a:endParaRPr b="0" lang="en-US" sz="4200" spc="-1" strike="noStrike">
              <a:solidFill>
                <a:srgbClr val="006633"/>
              </a:solidFill>
              <a:latin typeface="Garamond"/>
            </a:endParaRPr>
          </a:p>
        </p:txBody>
      </p:sp>
      <p:sp>
        <p:nvSpPr>
          <p:cNvPr id="101" name=""/>
          <p:cNvSpPr txBox="1"/>
          <p:nvPr/>
        </p:nvSpPr>
        <p:spPr>
          <a:xfrm>
            <a:off x="457200" y="1412640"/>
            <a:ext cx="8229600" cy="4608360"/>
          </a:xfrm>
          <a:prstGeom prst="rect">
            <a:avLst/>
          </a:prstGeom>
          <a:noFill/>
          <a:ln w="0">
            <a:noFill/>
          </a:ln>
        </p:spPr>
        <p:txBody>
          <a:bodyPr anchor="t">
            <a:normAutofit/>
          </a:bodyPr>
          <a:p>
            <a:pPr marL="343080" indent="-343080">
              <a:lnSpc>
                <a:spcPct val="80000"/>
              </a:lnSpc>
              <a:spcBef>
                <a:spcPts val="275"/>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5 years of being in remission (CT scans showed disease had resolved), the oncologist realised that she was still on morphine continuously. </a:t>
            </a:r>
            <a:endParaRPr b="0" lang="en-US" sz="26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e had no pain at all. The oncologist then told her to immediately stop the morphine. </a:t>
            </a:r>
            <a:endParaRPr b="0" lang="en-US" sz="26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dam SWH immediately stopped her morphine that day itself but that night she developed severe restlessness &amp; palpitations. She could not sleep &amp; had to take a dose of SR morphine in order to help her slee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FF92-0F47-4F93-BBA6-DBF08C97CB9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1 (cont…)</a:t>
            </a:r>
            <a:endParaRPr b="0" lang="en-US" sz="4200" spc="-1" strike="noStrike">
              <a:solidFill>
                <a:srgbClr val="006633"/>
              </a:solidFill>
              <a:latin typeface="Garamond"/>
            </a:endParaRPr>
          </a:p>
        </p:txBody>
      </p:sp>
      <p:sp>
        <p:nvSpPr>
          <p:cNvPr id="104" name=""/>
          <p:cNvSpPr txBox="1"/>
          <p:nvPr/>
        </p:nvSpPr>
        <p:spPr>
          <a:xfrm>
            <a:off x="457200" y="1599840"/>
            <a:ext cx="8229600" cy="434988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day, she tried to stop the morphine again but found that again she did not feel so well without it &amp; so kept on taking the morphine. </a:t>
            </a:r>
            <a:endParaRPr b="0" lang="en-US" sz="2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eeks later, she went back to see her oncologist who then referred her to the PCU clinic for addiction.</a:t>
            </a:r>
            <a:endParaRPr b="0" lang="en-US" sz="2800" spc="-1" strike="noStrike">
              <a:solidFill>
                <a:srgbClr val="000000"/>
              </a:solidFill>
              <a:latin typeface="Arial"/>
            </a:endParaRPr>
          </a:p>
        </p:txBody>
      </p:sp>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3002-1C06-4BDE-8F36-79D409E4DCE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755640" y="256536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patient addicted to morphine? </a:t>
            </a:r>
            <a:endParaRPr b="0" lang="en-US" sz="3600" spc="-1" strike="noStrike">
              <a:solidFill>
                <a:srgbClr val="000000"/>
              </a:solidFill>
              <a:latin typeface="Arial"/>
            </a:endParaRPr>
          </a:p>
        </p:txBody>
      </p:sp>
      <p:sp>
        <p:nvSpPr>
          <p:cNvPr id="10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86E4-5629-434D-9640-662FA68177B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gress Notes</a:t>
            </a:r>
            <a:endParaRPr b="0" lang="en-US" sz="4200" spc="-1" strike="noStrike">
              <a:solidFill>
                <a:srgbClr val="006633"/>
              </a:solidFill>
              <a:latin typeface="Garamond"/>
            </a:endParaRPr>
          </a:p>
        </p:txBody>
      </p:sp>
      <p:sp>
        <p:nvSpPr>
          <p:cNvPr id="109" name=""/>
          <p:cNvSpPr txBox="1"/>
          <p:nvPr/>
        </p:nvSpPr>
        <p:spPr>
          <a:xfrm>
            <a:off x="457200" y="148392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am SWH was seen in the PCU clinic &amp; her problem was explored. </a:t>
            </a:r>
            <a:endParaRPr b="0" lang="en-US" sz="28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aid she was happy to stop the morphine but afraid she would get palpitations &amp; restlessness when she stopped. </a:t>
            </a:r>
            <a:endParaRPr b="0" lang="en-US" sz="2800" spc="-1" strike="noStrike">
              <a:solidFill>
                <a:srgbClr val="000000"/>
              </a:solidFill>
              <a:latin typeface="Arial"/>
            </a:endParaRPr>
          </a:p>
          <a:p>
            <a:pPr marL="343080" indent="-343080">
              <a:lnSpc>
                <a:spcPct val="9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then agreed to reduce morphine slowly first i.e. 20 mg bd for 1 month &amp; then 20 mg OM &amp; 10 mg ON for another one month which she successfully di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246D-4199-422F-9186-DEDD3F7447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1042920" y="2641320"/>
            <a:ext cx="71294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difference between addiction &amp; physical dependence?</a:t>
            </a:r>
            <a:endParaRPr b="0" lang="en-US" sz="3600" spc="-1" strike="noStrike">
              <a:solidFill>
                <a:srgbClr val="000000"/>
              </a:solidFill>
              <a:latin typeface="Arial"/>
            </a:endParaRPr>
          </a:p>
        </p:txBody>
      </p:sp>
      <p:sp>
        <p:nvSpPr>
          <p:cNvPr id="112"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7570-7A47-49A8-A0E0-A2D9FC2CA5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2</a:t>
            </a:r>
            <a:endParaRPr b="0" lang="en-US" sz="4200" spc="-1" strike="noStrike">
              <a:solidFill>
                <a:srgbClr val="006633"/>
              </a:solidFill>
              <a:latin typeface="Garamond"/>
            </a:endParaRPr>
          </a:p>
        </p:txBody>
      </p:sp>
      <p:sp>
        <p:nvSpPr>
          <p:cNvPr id="114" name=""/>
          <p:cNvSpPr txBox="1"/>
          <p:nvPr/>
        </p:nvSpPr>
        <p:spPr>
          <a:xfrm>
            <a:off x="457200" y="1528560"/>
            <a:ext cx="8229600" cy="449244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r. KF was a 28 y.o. Chinese gentleman with metastatic ca colon, liver &amp; intra-abdominal metastasis. </a:t>
            </a:r>
            <a:endParaRPr b="0" lang="en-US" sz="2600" spc="-1" strike="noStrike">
              <a:solidFill>
                <a:srgbClr val="000000"/>
              </a:solidFill>
              <a:latin typeface="Arial"/>
            </a:endParaRPr>
          </a:p>
          <a:p>
            <a:pPr marL="343080" indent="-343080">
              <a:lnSpc>
                <a:spcPct val="80000"/>
              </a:lnSpc>
              <a:spcBef>
                <a:spcPts val="476"/>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c/o severe abdominal pain with a pain score of 8 - 9/10 initially. He was given oral morphine 20 mls stat by his doctor &amp; developed severe drowsiness (apparently slept for nearly 2 days before waking up again). </a:t>
            </a:r>
            <a:endParaRPr b="0" lang="en-US" sz="2600" spc="-1" strike="noStrike">
              <a:solidFill>
                <a:srgbClr val="000000"/>
              </a:solidFill>
              <a:latin typeface="Arial"/>
            </a:endParaRPr>
          </a:p>
          <a:p>
            <a:pPr marL="343080" indent="-343080">
              <a:lnSpc>
                <a:spcPct val="80000"/>
              </a:lnSpc>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this, he refused further morphine. He was then given IM pethidine 75 mg tds which he claimed relieved his pain better.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74B2-2E2C-431F-9091-FED389370A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547640" y="2806920"/>
            <a:ext cx="6301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Is pethidine a suitable drug for managing cancer pain? </a:t>
            </a:r>
            <a:endParaRPr b="0" lang="en-US" sz="3600" spc="-1" strike="noStrike">
              <a:solidFill>
                <a:srgbClr val="000000"/>
              </a:solidFill>
              <a:latin typeface="Arial"/>
            </a:endParaRPr>
          </a:p>
        </p:txBody>
      </p:sp>
      <p:sp>
        <p:nvSpPr>
          <p:cNvPr id="11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5304-A57D-4423-8EA5-3C522FEC8E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6:44:01Z</dcterms:created>
  <dc:creator>User</dc:creator>
  <dc:description/>
  <dc:language>en-US</dc:language>
  <cp:lastModifiedBy>Dr.Amin</cp:lastModifiedBy>
  <dcterms:modified xsi:type="dcterms:W3CDTF">2011-06-07T07:12:50Z</dcterms:modified>
  <cp:revision>169</cp:revision>
  <dc:subject/>
  <dc:title>An Evidence Based and Practical Approach to the Management of Cancer Pain in Malaysia</dc:title>
</cp:coreProperties>
</file>