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E0DC-215F-47A7-9860-7F5A2CB7E26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-analysis on psychoeducational interventions as adjuv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apy for patients with cancer pain found small to moderate benef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pain; psychoeducational intervention (d=0.2, NNT=9), cognitive behavio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vention (d=0.35, NNT=5) and supportive couns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=0.33, NNT=5).152, level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pain severity for distraction was 0.90 (95% CI 0.16 to 1.85), and for relaxation was 1.16 (95% 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5 to 1.85). In general, these interventions had immediate but non-sustained impac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-related p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1764-71C6-4195-91BC-5C18666DF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A93-18D4-434C-B1DC-9B08EFDF0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treatments are provided by trained health care personnel, e.g., physiotherapist , occupational therapist and complementary phys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A888-95B2-42FB-B396-402792F82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FB17-4933-4C16-B960-A7E84C297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 is an important stressor in all kinds of cancers, causing dis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sychological dist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F918-1E9D-498D-8945-41E2E11B0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 studies that showed significant positive correlations between psychological dist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ncer p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systematic review by Laird BJ et. al., there were significant relationships betw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 pain and depression.56, level II-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E912-FD1C-41B0-8E3A-C9BB1A6CE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prevalence of patients with both depression and pain was 36.5% (range 22.1 to 49.0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 intensity had positive correlation with depression (r=0.36 to 0.5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&lt;0.0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cluded that both pain and depression are high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alent in cancer patients and that psychological distress is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alent in cancer patients with pain than those without p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 was positively associated with psychological distress (OR=1.2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0) and negatively associated with social support/activities (OR=1.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2.30).57, level II-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d to the general population, cancer surviv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a higher symptom burden of recurrent pain, OR=2.44 (95%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6 to 2.74); psychological distress (depressed and anxious mood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=1.98 (95%CI 1.76 to 2.22) and insomnia OR=2.09 (95%CI 1.83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D1CD-41EF-4848-9CC5-6E77E28B2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pite profound psychological effects on patients, psychological distress components often goes unrecognised, therefore routine screening for psychological distress should be part of a comprehensive pain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8EC8-FEED-4169-AE12-7C92B5FA0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60D2-6D45-4949-B0E0-EF53A80B4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use the 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art, please circle the number (0-10) that best describes how much distress you have been experiencing in the past week including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T cut-off score of 5 and above is considered to have significant psychological distress and for possible psychiatric assess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econd part, please indicate if any of the following has been a problem for you in the past week including today. Be sure to check YES or NO for each. It has 5 domains (practical, family, emotional, spiritual and physical problems). Patients can tick as many options as indicated in order what domains patients are mostly aff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FC8B-1CFE-4D1A-9EE7-3EC1335B4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176-80A6-4042-8E63-2B040F10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23D-C1D3-41A3-B6AC-EA73E7B0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F01-CF6F-43BD-AC24-DFF134A4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39D-AEBF-4E55-8C18-4F1FD7B2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66DC-2D40-4A23-A96B-D7CD165E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2EDC-778B-4005-8BE3-059145C6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B5B9-CCD3-4EB5-8D6A-1EF2C55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1176-28DF-4378-9F22-6786628A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168-37E6-4301-B28D-B9D45AD2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F8D-2B7C-4B86-AF8B-80A77091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01F1-FEBF-42CA-BBD1-C3573669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473-ED79-4383-B12C-4D8AC4BB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E247-33E1-4D76-A0E8-CE341B89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E52A-A655-499F-B4A7-9551D758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8110-DCC8-4F6A-A671-0C00938F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E877-EDC8-42AE-A9B9-29AD126B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8078-A0A1-4597-A8D0-61477975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B0D-CD0E-4882-A5B5-518AAA04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908-7483-40BB-9F1E-72E6072F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33B-E5D5-4F1D-8296-5BF23426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65B-DCD0-44E2-9DF9-DFFA3F1A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17E-1823-4FB2-8802-C324A2C0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479-3F80-405E-AE0B-C4CA38F9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ACA-D466-4C70-A401-A15634F8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0BF7-53E9-46FB-9972-FEA48D1B6BC4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7DA7-DC47-4559-B04A-2548DE6371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1CB3-C473-407D-8B71-32ED3DF2AFD9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FC84-A501-4B1E-851B-E235310409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42920" y="765000"/>
            <a:ext cx="4249800" cy="31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PSYCHOSOCIAL ASSESSMENT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&amp; TREATMENT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50920" y="250920"/>
            <a:ext cx="4105080" cy="6300720"/>
          </a:xfrm>
          <a:prstGeom prst="rect">
            <a:avLst/>
          </a:prstGeom>
          <a:ln w="0">
            <a:noFill/>
          </a:ln>
        </p:spPr>
      </p:pic>
      <p:sp>
        <p:nvSpPr>
          <p:cNvPr id="95" name="Title 1"/>
          <p:cNvSpPr/>
          <p:nvPr/>
        </p:nvSpPr>
        <p:spPr>
          <a:xfrm>
            <a:off x="4716360" y="4292640"/>
            <a:ext cx="395928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Clinical Practice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Management of Cancer Pain  Development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9951-ECC5-4538-9BB6-3A96D74C0AA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sychosocial Assessment -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commend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320" y="1915920"/>
            <a:ext cx="85042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urate &amp; comprehensive assessment should be performed prior to treatment in all patients with cancer pain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osocial assessment should be carried out in all patients with cancer pain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Grade 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35BE-1A4C-4899-B3AD-5E782DCEA349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ake Home Messa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1320" y="1527120"/>
            <a:ext cx="850428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in is an important stressor in all kinds of cancers, causing disability &amp;</a:t>
            </a:r>
            <a:r>
              <a:rPr b="0" lang="ms-MY" sz="3000" spc="-1" strike="noStrike">
                <a:solidFill>
                  <a:srgbClr val="000000"/>
                </a:solidFill>
                <a:latin typeface="Arial"/>
              </a:rPr>
              <a:t> psychological distr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sychological factors in cancer patients can compound the </a:t>
            </a:r>
            <a:r>
              <a:rPr b="0" lang="ms-MY" sz="3000" spc="-1" strike="noStrike">
                <a:solidFill>
                  <a:srgbClr val="000000"/>
                </a:solidFill>
                <a:latin typeface="Arial"/>
              </a:rPr>
              <a:t>experience of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creening for psychological distress should be administered using </a:t>
            </a:r>
            <a:r>
              <a:rPr b="0" lang="ms-MY" sz="3000" spc="-1" strike="noStrike">
                <a:solidFill>
                  <a:srgbClr val="000000"/>
                </a:solidFill>
                <a:latin typeface="Arial"/>
              </a:rPr>
              <a:t>validated t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4AD9-5ACE-408D-A76D-49F44F002BB4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1320" y="2060640"/>
            <a:ext cx="850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NON – PHARMACOLOGIC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TREAT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8B34-7CE4-43F1-956E-93F5DE8D6677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sychosocial Intervent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560" y="1341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cc99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&amp; cognitive-behavioural interventions can alleviate not only pain severity, but also psychological distress related t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300"/>
              </a:spcBef>
              <a:buClr>
                <a:srgbClr val="cc99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01"/>
              </a:spcBef>
              <a:buClr>
                <a:srgbClr val="cc99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educational intervention (education on use of analgesia &amp; specific instructions about how to react to uncontrolled pain) is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592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patients’ knowledge regarding cancer pain managemen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,level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592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pain intensity sco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, level II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592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opioid analgesic prescript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, level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592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im JE et al., Oncol Nurs Forum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bin M et al.,  Oncol Nurs Forum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askowski C et.al.,  J Clin Oncol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6641-FFA4-464B-B5BD-81DB4ECD4E25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sychosocial Interventio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1320" y="1526760"/>
            <a:ext cx="85042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pain severity was achieved using distraction &amp; relaxation; however, while these interventions had immediate impact on cancer-related pain, the impacts were found to be non-sustainable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, level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treatment of anxiety &amp; depression with pharmacological agents may be necessary for successful pain control in patients where these are major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ms-MY" sz="1400" spc="-1" strike="noStrike">
                <a:solidFill>
                  <a:srgbClr val="000000"/>
                </a:solidFill>
                <a:latin typeface="Arial"/>
              </a:rPr>
              <a:t>Anderson KO  et. 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, Cancer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C9E2-2B5C-483C-A4EB-DF704D4F9FA8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hysical &amp; Complementary  Therap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1320" y="1341360"/>
            <a:ext cx="85042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&amp; complementary therapies are commonly used to relieve cancer-related symp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evidence to support their use in the treatment of cancer pain remains lim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700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, level 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700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age &amp; Aromatherap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- 3, le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700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upunctu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, le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700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utaneous Electrical Nerve Stimulation (TENS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, le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cNeely ML et al., Cancer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ms-MY" sz="1400" spc="-1" strike="noStrike">
                <a:solidFill>
                  <a:srgbClr val="000000"/>
                </a:solidFill>
                <a:latin typeface="Arial"/>
              </a:rPr>
              <a:t>Jane SW et al.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ncer Nurs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llowes D et al., Cochrane Database of Systematic Reviews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ms-MY" sz="1400" spc="-1" strike="noStrike">
                <a:solidFill>
                  <a:srgbClr val="000000"/>
                </a:solidFill>
                <a:latin typeface="Arial"/>
              </a:rPr>
              <a:t>Alimi D  et al.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n Oncol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ms-MY" sz="1400" spc="-1" strike="noStrike">
                <a:solidFill>
                  <a:srgbClr val="000000"/>
                </a:solidFill>
                <a:latin typeface="Arial"/>
              </a:rPr>
              <a:t>Robb KA et al.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 Pain Symptom Manage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26A8-434F-491D-8FCC-4B332A00E738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Non-Pharmacological Treatment -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commend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1320" y="1887480"/>
            <a:ext cx="8504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ological interventions, including psycho-education, are useful &amp; should be considered in patients with cancer pain &amp; psychological distress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sical &amp; complementary treatment can be used as an adjunctive therapy for patients with cancer pain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Grade 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E014-CD74-463E-BADF-5C69E3D982CA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b812f"/>
                </a:solidFill>
                <a:latin typeface="Garamond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b812f"/>
                </a:solidFill>
                <a:latin typeface="Garamond"/>
              </a:rPr>
              <a:t>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9E50-2248-479F-B1F0-796872B428FE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earning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44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knowledge the importance of psychosocial factors in understanding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understand the impact of pain on different aspects of patients’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 include psychological  distress component as  part  of  a comprehensive  pain 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9A66-9DE1-4FA5-B295-405C94E4D343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at does Pain Mean to Patient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1320" y="1527120"/>
            <a:ext cx="8504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ing of pain for patients with cancer may be different compared to those with pain due to non-malignant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ain is perhaps one of the most feared consequences for patients with cancer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 as a sign of disease progression leading to loss of hope for cure or as a punishment for previous wrong doing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level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omas EM et al., Cancer Control,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denberg MS, Comprehensive Textbooks of Psychiatry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ey KM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ford Textbook of Palliative Medici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C114-E60F-43FC-A177-35D120023149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4160" y="228600"/>
            <a:ext cx="8620200" cy="12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are the Psycho-Social Effects of Pain on Patient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708360" y="3141720"/>
            <a:ext cx="1706760" cy="1224000"/>
          </a:xfrm>
          <a:prstGeom prst="rect">
            <a:avLst/>
          </a:pr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 flipH="1">
            <a:off x="826920" y="1989000"/>
            <a:ext cx="2089440" cy="1059120"/>
          </a:xfrm>
          <a:prstGeom prst="rect">
            <a:avLst/>
          </a:prstGeom>
          <a:solidFill>
            <a:srgbClr val="ffff9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e on analge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443640" y="1989000"/>
            <a:ext cx="2016000" cy="1008360"/>
          </a:xfrm>
          <a:prstGeom prst="rect">
            <a:avLst/>
          </a:prstGeom>
          <a:solidFill>
            <a:srgbClr val="ffff9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e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6084720" y="4724280"/>
            <a:ext cx="2880000" cy="98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o-economic threats (e.g. loss of j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84360" y="4869000"/>
            <a:ext cx="23032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of control, power,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15"/>
          <p:cNvCxnSpPr/>
          <p:nvPr/>
        </p:nvCxnSpPr>
        <p:spPr>
          <a:xfrm flipV="1">
            <a:off x="5508720" y="2420280"/>
            <a:ext cx="792720" cy="6483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/>
          <p:nvPr/>
        </p:nvCxnSpPr>
        <p:spPr>
          <a:xfrm flipH="1" flipV="1">
            <a:off x="2987280" y="2565000"/>
            <a:ext cx="721440" cy="5040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1" name="Straight Arrow Connector 21"/>
          <p:cNvCxnSpPr/>
          <p:nvPr/>
        </p:nvCxnSpPr>
        <p:spPr>
          <a:xfrm flipH="1">
            <a:off x="3131640" y="4508640"/>
            <a:ext cx="720000" cy="7927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2" name="Straight Arrow Connector 23"/>
          <p:cNvCxnSpPr/>
          <p:nvPr/>
        </p:nvCxnSpPr>
        <p:spPr>
          <a:xfrm>
            <a:off x="5291640" y="4581360"/>
            <a:ext cx="648360" cy="7200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3" name="Rectangle 24"/>
          <p:cNvSpPr/>
          <p:nvPr/>
        </p:nvSpPr>
        <p:spPr>
          <a:xfrm>
            <a:off x="3708360" y="5157720"/>
            <a:ext cx="17272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27"/>
          <p:cNvCxnSpPr/>
          <p:nvPr/>
        </p:nvCxnSpPr>
        <p:spPr>
          <a:xfrm flipH="1">
            <a:off x="4498200" y="4509720"/>
            <a:ext cx="2520" cy="577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5" name="Slide Number Placeholder 1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1471-CB08-42AF-9C8F-791E14374F3D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ain &amp; Psychological Distress</a:t>
            </a:r>
            <a:r>
              <a:rPr b="1" lang="en-US" sz="4200" spc="-1" strike="noStrike" baseline="30000">
                <a:solidFill>
                  <a:srgbClr val="006633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539640" y="2565360"/>
            <a:ext cx="2737080" cy="180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5148360" y="2492280"/>
            <a:ext cx="3456000" cy="1728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YCH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urved Down Arrow 6"/>
          <p:cNvSpPr/>
          <p:nvPr/>
        </p:nvSpPr>
        <p:spPr>
          <a:xfrm>
            <a:off x="2916360" y="1628640"/>
            <a:ext cx="2808000" cy="936720"/>
          </a:xfrm>
          <a:custGeom>
            <a:avLst/>
            <a:gdLst>
              <a:gd name="textAreaLeft" fmla="*/ 614160 w 2808000"/>
              <a:gd name="textAreaRight" fmla="*/ 2076840 w 280800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49" hR="21600" stAng="10800000" swAng="5400000"/>
                <a:lnTo>
                  <a:pt x="11251" y="0"/>
                </a:lnTo>
                <a:arcTo wR="9449" hR="21600" stAng="-5400000" swAng="3566974"/>
                <a:lnTo>
                  <a:pt x="21300" y="16200"/>
                </a:lnTo>
                <a:lnTo>
                  <a:pt x="19799" y="21600"/>
                </a:lnTo>
                <a:lnTo>
                  <a:pt x="17698" y="16200"/>
                </a:lnTo>
                <a:lnTo>
                  <a:pt x="18598" y="16200"/>
                </a:lnTo>
                <a:arcTo wR="9449" hR="21600" stAng="-1833026" swAng="-3423003"/>
                <a:lnTo>
                  <a:pt x="10350" y="98"/>
                </a:lnTo>
                <a:arcTo wR="9449" hR="21600" stAng="-5543971" swAng="-5256029"/>
                <a:close/>
              </a:path>
              <a:path fill="darkenLess" w="21600" h="21600">
                <a:moveTo>
                  <a:pt x="0" y="21600"/>
                </a:moveTo>
                <a:arcTo wR="9449" hR="21600" stAng="10800000" swAng="5400000"/>
                <a:lnTo>
                  <a:pt x="9449" y="0"/>
                </a:lnTo>
                <a:arcTo wR="9449" hR="21600" stAng="-5400000" swAng="143971"/>
                <a:lnTo>
                  <a:pt x="10350" y="98"/>
                </a:lnTo>
                <a:arcTo wR="9449" hR="21600" stAng="-5543971" swAng="-5256029"/>
                <a:close/>
              </a:path>
            </a:pathLst>
          </a:custGeom>
          <a:solidFill>
            <a:srgbClr val="0000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urved Down Arrow 7"/>
          <p:cNvSpPr/>
          <p:nvPr/>
        </p:nvSpPr>
        <p:spPr>
          <a:xfrm rot="10800000">
            <a:off x="2771280" y="4220640"/>
            <a:ext cx="3024360" cy="1008360"/>
          </a:xfrm>
          <a:custGeom>
            <a:avLst/>
            <a:gdLst>
              <a:gd name="textAreaLeft" fmla="*/ 661320 w 3024360"/>
              <a:gd name="textAreaRight" fmla="*/ 2236680 w 3024360"/>
              <a:gd name="textAreaTop" fmla="*/ 135000 h 1008360"/>
              <a:gd name="textAreaBottom" fmla="*/ 873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0000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6237360"/>
            <a:ext cx="6696000" cy="576360"/>
          </a:xfrm>
          <a:prstGeom prst="rect">
            <a:avLst/>
          </a:prstGeom>
          <a:solidFill>
            <a:srgbClr val="ffff9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ird BJ et al., Psychooncology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947C-FA0D-404A-B556-15E5DD503E54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ain &amp; Psychological Dist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1320" y="1526760"/>
            <a:ext cx="85914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 prevalence of patients with both depression &amp; pain was 36.5%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level I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 intensity had positive correlation with depression &amp; negatively associated with social support/activitie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-2, level II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in &amp; depression are highly prevalent in cancer patients &amp; that psychological distress is more prevalent in cancer patients with pain than those without pain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level I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ird BJ et al., Psychooncology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ms-MY" sz="1400" spc="-1" strike="noStrike">
                <a:solidFill>
                  <a:srgbClr val="000000"/>
                </a:solidFill>
                <a:latin typeface="Arial"/>
              </a:rPr>
              <a:t>Zaza C et al., Pain Symptom Manage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8937-E61A-4378-AB54-730D311A3D9A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sychological Screen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320" y="1527120"/>
            <a:ext cx="85042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sychosocial assessment is an integral part of comprehensive cancer  pain assessment.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use of simple &amp; practical screening tools may assist the clinicians to recognise the distress.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, level I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ings from assessment may assist necessary referrals for appropriate support.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3, level I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, Control of pain in adults with cancer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ms-MY" sz="1400" spc="-1" strike="noStrike">
                <a:solidFill>
                  <a:srgbClr val="000000"/>
                </a:solidFill>
                <a:latin typeface="Arial"/>
              </a:rPr>
              <a:t>Zainal N et al.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ia-Pacific J Clinical Oncology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ms-MY" sz="1400" spc="-1" strike="noStrike">
                <a:solidFill>
                  <a:srgbClr val="000000"/>
                </a:solidFill>
                <a:latin typeface="Arial"/>
              </a:rPr>
              <a:t>Jacobsen PB, et al., Canc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803B-0AB5-4111-AA97-7EABDAD7F0A0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stress Thermometer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1320" y="1526760"/>
            <a:ext cx="85042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eening for psychological distress should be administered using validated too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T was able to discriminate effectively between classified patients with &amp; without clinically significant distress.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T cut-off score of ≥4 yielded sensitivity of 0.77 &amp; specificity of 0.68 for HADS (Hospital &amp; Anxiety Stress Scale), &amp; sensitivity &amp; specificity of 0.70 for BSI-18 (Brief Symptom Inventory-18).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72E2-ED2F-4852-8F50-889AD08FB2AA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68360" y="618156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ms-MY" sz="1400" spc="-1" strike="noStrike">
                <a:solidFill>
                  <a:srgbClr val="000000"/>
                </a:solidFill>
                <a:latin typeface="Arial"/>
              </a:rPr>
              <a:t>Jacobsen PB, et al., Canc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stress Thermometer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95A3-54A3-499E-8364-0CCACB4011FD}" type="slidenum">
              <a:rPr b="0" lang="ms-MY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38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6:44:01Z</dcterms:created>
  <dc:creator>User</dc:creator>
  <dc:description/>
  <dc:language>en-US</dc:language>
  <cp:lastModifiedBy>Dr.Amin</cp:lastModifiedBy>
  <dcterms:modified xsi:type="dcterms:W3CDTF">2011-06-07T08:37:56Z</dcterms:modified>
  <cp:revision>146</cp:revision>
  <dc:subject/>
  <dc:title>An Evidence Based and Practical Approach to the Management of Cancer Pain in Malaysia</dc:title>
</cp:coreProperties>
</file>